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3AA-894C-4545-9AD1-EF68AA77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A146-417E-4C2F-B5D2-C0CFD866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AC0-CDAE-45B5-B6AE-122BBA3A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B7E-AC3A-4A9A-B202-EC3B2E11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9B5-12C4-43E2-BFA7-F30F0663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5AC-B6CD-4CB0-9489-D378CDBC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DBD8-DEFB-4CB7-B634-64691294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B7E4-CE0A-4F04-A117-2A3ABC59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039C-FEED-44E2-B3C4-BCAE3810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D98-BC10-43AB-B6C5-7512AB046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918-5C2F-4C8F-A74F-0D7F778D2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DA3-6209-4E5F-A765-9C076808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142C-293A-433A-B8F5-A5B7BA93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CA89-D8AD-43F8-9DE9-63B863B3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77A-39EA-4943-AAE4-3E48D8D6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FFE-B5B9-4C5C-9157-7ED49FC4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15A-8871-46C9-9D9C-59B3BCA9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CC1-D372-4CBD-AEFC-D3E182BD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B64-8619-47FF-A52F-13C377B4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153-2C8D-47A2-A0EF-05FBFDB3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2F17-8902-476A-BED7-E8BC8A6D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203-C195-4988-B385-ECF51F9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3809-09D9-408F-8BA8-BD43B5A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55DC-AE56-40AC-81F1-0BDDE59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D4B-AC28-4E58-BCD4-8F083AB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2DC3-6F94-49D6-8643-02FFC20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1B86-CDF3-47A0-8802-0D34170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1F9-2647-4988-ABAD-B6CF417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442A-C147-4CCF-BDD6-301B27E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DCB-A084-41EF-9E29-D2D81A6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57C-E37A-4CF9-ADB7-02F11DF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624A-340A-4E23-86F7-4A6ABEC8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F4B-419B-45C9-9353-DBF0865A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304A-B8FA-4563-8768-35F1F0C4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E61C-9C6B-4A77-811D-59A49AC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FC2C-DDC5-4A2A-855B-C797096C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69AB-1F5A-4027-9082-0BA0E99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D624-19E8-4E88-BE2C-3B825E3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760-AB8E-4C2E-9C2A-FD3DCB05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A9F7-2B84-42E3-A71E-DE2074A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6FB4-6F60-4D34-AE2F-167B1CB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4CAC-CAC1-4C18-8C92-F63B3D4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19D0-56E5-42D8-B4E0-A919F62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6D0B-F857-43F7-85C8-086CE19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5FDA-6967-47DA-BF46-B310D78C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6B2E-180E-494E-A4E9-AC84E7B4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3D39-F5F7-42DA-A6F7-1E3683D2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8AE7A-EA62-4031-A81A-689C1522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625E-ADB1-4558-8FD0-9D848BB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B23-F465-413C-9DA5-ED77D28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0258-CAB4-4A59-B5D8-2169B575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0CC3-D422-480A-A106-1CFCB9F5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372C-6830-4E8B-A8AC-3141482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26DB-7B59-4F96-BE6C-7DB6455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6AA4-D0A3-4DAA-9249-0B7239E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AB23-A715-4639-BA8B-114D795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206E-3E6B-447B-A382-DB0918D8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3439-415C-48FF-9266-3FEECF80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CA89-0AA9-4595-BD54-0ADD60E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9C7-979B-4CF6-89B7-5CEE061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03B-8FD7-4F7B-A130-C17214DC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97D-7812-4A1D-82F0-1457F05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23B-A5C5-4D95-9585-B1F5631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DC1-4FA9-4A5F-AC14-BC0A6EC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E23A-E13C-4BED-8DD3-8E7343B887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9 by Maribeth H.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467-DDF7-4BB6-9CC6-1EB32D829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119-C1F1-4C58-BB3F-BA5FC232F2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9 by Maribeth H.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346-39B7-44B8-A883-57C4A0775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CDA-0E87-4291-8A63-F94A79268B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8F2-339C-47EE-8FD1-337D09233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37B6-49C2-4071-B417-8B4E5D0E34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1E7D-EC49-43D1-96B9-80AED32BA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554-A91F-4471-9603-396A6FD0FC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6092"/>
                </a:solidFill>
                <a:latin typeface="Calibri"/>
              </a:rPr>
              <a:t>Raster Analysis—Par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0BD5-ECBA-43E5-B068-5FE2A93472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ut and fill on a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124080" cy="22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2438280" y="4343400"/>
            <a:ext cx="3086280" cy="221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111096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1219320" y="1523880"/>
            <a:ext cx="3076560" cy="220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8" name="Text Box 7"/>
          <p:cNvSpPr/>
          <p:nvPr/>
        </p:nvSpPr>
        <p:spPr>
          <a:xfrm>
            <a:off x="2209680" y="3809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Initial surface] – [final surfa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921280" y="45529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4572000" y="4800600"/>
            <a:ext cx="129528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5105520" y="5410080"/>
            <a:ext cx="76176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52F7-F85F-4048-9613-54DFEE402B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Hydrologic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719440" cy="37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45" name="Object 4"/>
          <p:cNvGraphicFramePr/>
          <p:nvPr/>
        </p:nvGraphicFramePr>
        <p:xfrm>
          <a:off x="609480" y="1523880"/>
          <a:ext cx="4343400" cy="36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343400" cy="366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304920" y="5486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streams, watersheds, and other hydrologic features based on analysis of a D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C6B-316C-4F39-9C63-EC2E852FDC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Distanc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7680" t="0" r="9759" b="0"/>
          <a:stretch/>
        </p:blipFill>
        <p:spPr>
          <a:xfrm>
            <a:off x="609480" y="1498680"/>
            <a:ext cx="3810240" cy="2530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1" name="Text Box 7"/>
          <p:cNvSpPr/>
          <p:nvPr/>
        </p:nvSpPr>
        <p:spPr>
          <a:xfrm>
            <a:off x="4800600" y="5410080"/>
            <a:ext cx="3048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lin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85800" y="1523880"/>
            <a:ext cx="2895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ath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09480" y="5791320"/>
            <a:ext cx="1295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0360" cy="40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733920" cy="2025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FAE6-1601-4209-BFD7-6667CF1A92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traight lin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87840" y="1598760"/>
            <a:ext cx="365616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s from a set of features (points, lines, polyg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s a grid where each cell represents distance to the closest of the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ance units are given in coordinate system map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04676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5"/>
          <p:cNvSpPr/>
          <p:nvPr/>
        </p:nvSpPr>
        <p:spPr>
          <a:xfrm>
            <a:off x="534600" y="61722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roads (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6183360" y="5138640"/>
            <a:ext cx="2609640" cy="141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2" name="Text Box 7"/>
          <p:cNvSpPr/>
          <p:nvPr/>
        </p:nvSpPr>
        <p:spPr>
          <a:xfrm>
            <a:off x="4352760" y="5033880"/>
            <a:ext cx="208944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ance function is the first step in in creating raster buf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180-BF4F-44F0-BE79-21A8876AD7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owest cost 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7940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7" name="Text Box 10"/>
          <p:cNvSpPr/>
          <p:nvPr/>
        </p:nvSpPr>
        <p:spPr>
          <a:xfrm>
            <a:off x="5715000" y="1295280"/>
            <a:ext cx="3429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reate start/stop shape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ost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cost distance grid and cost direction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west co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2514600" y="21337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>
            <a:off x="380880" y="2666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3"/>
          <a:srcRect l="7680" t="0" r="9759" b="0"/>
          <a:stretch/>
        </p:blipFill>
        <p:spPr>
          <a:xfrm>
            <a:off x="5943600" y="4648320"/>
            <a:ext cx="2971800" cy="197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1" name="Text Box 14"/>
          <p:cNvSpPr/>
          <p:nvPr/>
        </p:nvSpPr>
        <p:spPr>
          <a:xfrm>
            <a:off x="304920" y="3429000"/>
            <a:ext cx="1520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254400" y="3409920"/>
            <a:ext cx="104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380880" y="601992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124080" y="601992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8" descr=""/>
          <p:cNvPicPr/>
          <p:nvPr/>
        </p:nvPicPr>
        <p:blipFill>
          <a:blip r:embed="rId4"/>
          <a:stretch/>
        </p:blipFill>
        <p:spPr>
          <a:xfrm>
            <a:off x="3124080" y="4162320"/>
            <a:ext cx="2514600" cy="234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6" name="Picture 19" descr=""/>
          <p:cNvPicPr/>
          <p:nvPr/>
        </p:nvPicPr>
        <p:blipFill>
          <a:blip r:embed="rId5"/>
          <a:stretch/>
        </p:blipFill>
        <p:spPr>
          <a:xfrm>
            <a:off x="304920" y="4143240"/>
            <a:ext cx="2590560" cy="237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wheel spokes="1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ACB-C115-4676-BADE-42419CCB77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76092"/>
                </a:solidFill>
                <a:latin typeface="Calibri"/>
              </a:rPr>
              <a:t>Raster Analysis—</a:t>
            </a:r>
            <a:br>
              <a:rPr sz="4900"/>
            </a:br>
            <a:r>
              <a:rPr b="0" lang="en-US" sz="4900" spc="-1" strike="noStrike">
                <a:solidFill>
                  <a:srgbClr val="376092"/>
                </a:solidFill>
                <a:latin typeface="Calibri"/>
              </a:rPr>
              <a:t>End of Part 2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132-7CC7-4CCC-B67F-EBC1D8B412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Desired 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pplication of the following raster fun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las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hood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l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A64A-1F7C-4E2B-BD7F-94754A9C9C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Other raster analysis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98120"/>
            <a:ext cx="5027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ighborhoo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405400" y="1446120"/>
            <a:ext cx="299232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FF61-0CB0-42D8-B1C5-C47E6B01E0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e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638680" y="4052880"/>
            <a:ext cx="3299040" cy="25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6172200" y="19810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one set of grid value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or class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3124080" y="1917720"/>
            <a:ext cx="259092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5" name="Picture 9" descr=""/>
          <p:cNvPicPr/>
          <p:nvPr/>
        </p:nvPicPr>
        <p:blipFill>
          <a:blip r:embed="rId3"/>
          <a:stretch/>
        </p:blipFill>
        <p:spPr>
          <a:xfrm>
            <a:off x="304920" y="1917720"/>
            <a:ext cx="2666880" cy="177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6" name="Text Box 10"/>
          <p:cNvSpPr/>
          <p:nvPr/>
        </p:nvSpPr>
        <p:spPr>
          <a:xfrm>
            <a:off x="1146600" y="1512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250080" y="1523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 slope/lo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4419720" cy="15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9" name="Line 13"/>
          <p:cNvSpPr/>
          <p:nvPr/>
        </p:nvSpPr>
        <p:spPr>
          <a:xfrm>
            <a:off x="1371600" y="3505320"/>
            <a:ext cx="457200" cy="838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3505320" y="3580920"/>
            <a:ext cx="457200" cy="7621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CB6-EF52-4156-A4BB-55FD638EC3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urfa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943600" y="16002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sh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57940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Picture 11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2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Picture 13" descr=""/>
          <p:cNvPicPr/>
          <p:nvPr/>
        </p:nvPicPr>
        <p:blipFill>
          <a:blip r:embed="rId4"/>
          <a:stretch/>
        </p:blipFill>
        <p:spPr>
          <a:xfrm>
            <a:off x="3108240" y="4098960"/>
            <a:ext cx="257508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8" name="Picture 14" descr=""/>
          <p:cNvPicPr/>
          <p:nvPr/>
        </p:nvPicPr>
        <p:blipFill>
          <a:blip r:embed="rId5"/>
          <a:stretch/>
        </p:blipFill>
        <p:spPr>
          <a:xfrm>
            <a:off x="5867280" y="4038480"/>
            <a:ext cx="2714760" cy="26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DF7-55C8-4B5B-AE5F-AD8731E672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lop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3625920" y="3513240"/>
          <a:ext cx="525780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5920" y="3513240"/>
                    <a:ext cx="5257800" cy="2881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41200" y="152280"/>
            <a:ext cx="318780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319392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6"/>
          <p:cNvSpPr/>
          <p:nvPr/>
        </p:nvSpPr>
        <p:spPr>
          <a:xfrm>
            <a:off x="3768840" y="1511280"/>
            <a:ext cx="5105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slope of the surface based on surrounding ce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xpressed in degrees or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4D4-2C41-4141-84ED-DB5543A347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Aspec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3516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296244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10" name="Object 5"/>
          <p:cNvGraphicFramePr/>
          <p:nvPr/>
        </p:nvGraphicFramePr>
        <p:xfrm>
          <a:off x="3635280" y="4254480"/>
          <a:ext cx="4716720" cy="22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54480"/>
                    <a:ext cx="4716720" cy="22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Text Box 6"/>
          <p:cNvSpPr/>
          <p:nvPr/>
        </p:nvSpPr>
        <p:spPr>
          <a:xfrm>
            <a:off x="3606840" y="1230480"/>
            <a:ext cx="5257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direction of steepest slope, e.g. which way the slop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represents direction from 0 degrees to 360 degrees, where 0/360 is Nor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areas are assigned a -1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F7A3-68FF-4FB0-8293-8452B3DD4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280" y="313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Hillsh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724200" y="1457280"/>
            <a:ext cx="4953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the brightness or illumination of a surface from a specified ligh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include terrain display and modeling satellite refle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28600" y="3505320"/>
          <a:ext cx="2878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05320"/>
                    <a:ext cx="2878200" cy="2895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260280" y="380880"/>
            <a:ext cx="288288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19" name="Object 6"/>
          <p:cNvGraphicFramePr/>
          <p:nvPr/>
        </p:nvGraphicFramePr>
        <p:xfrm>
          <a:off x="3772080" y="4057560"/>
          <a:ext cx="1795320" cy="15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72080" y="4057560"/>
                    <a:ext cx="1795320" cy="1557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1" name="Object 7"/>
          <p:cNvGraphicFramePr/>
          <p:nvPr/>
        </p:nvGraphicFramePr>
        <p:xfrm>
          <a:off x="6496200" y="4027320"/>
          <a:ext cx="1676160" cy="15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96200" y="4027320"/>
                    <a:ext cx="1676160" cy="150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Text Box 8"/>
          <p:cNvSpPr/>
          <p:nvPr/>
        </p:nvSpPr>
        <p:spPr>
          <a:xfrm>
            <a:off x="3619440" y="565776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direction of illumination source (315 by defa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267600" y="56275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ngle of the source above the horizon (45 d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ABF-9098-4CA5-B011-344CAC599A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Viewshed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87840" y="2008080"/>
            <a:ext cx="3656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areas visible from a set of observation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28600" y="2013120"/>
            <a:ext cx="4495680" cy="347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9" name="Text Box 6"/>
          <p:cNvSpPr/>
          <p:nvPr/>
        </p:nvSpPr>
        <p:spPr>
          <a:xfrm>
            <a:off x="5170320" y="360216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arameters are available for the tool version, such as the horizontal angle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352680" y="1828800"/>
            <a:ext cx="533520" cy="22096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 flipH="1">
            <a:off x="1676160" y="4191120"/>
            <a:ext cx="160020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1:07:44Z</dcterms:created>
  <dc:creator>Maribeth Price</dc:creator>
  <dc:description/>
  <dc:language>en-US</dc:language>
  <cp:lastModifiedBy>Svein Stoveland</cp:lastModifiedBy>
  <dcterms:modified xsi:type="dcterms:W3CDTF">2014-08-21T17:56:36Z</dcterms:modified>
  <cp:revision>151</cp:revision>
  <dc:subject/>
  <dc:title>Lesson 1</dc:title>
</cp:coreProperties>
</file>