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D62-E9F6-4BA3-9280-50C8CD44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A05-B847-4F44-BAE1-5BADEE21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25B-91D7-4AC8-854A-73A31EB9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5884-85D8-4C66-BD81-1C194A2E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E9A-09BD-4807-A645-5C8CFEBA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31EC-60B5-459E-BF66-1A5A510A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A2A-F514-4E28-8F3B-A3B7E2C55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1A5-EB43-49A6-9F83-1166F115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AD4-CF02-40B5-BCB4-0D2B86C1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91A1-37C3-400B-85EC-31235E8A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EAF-56C6-4FAE-A8BD-DFEE51E4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98A-B4A2-405E-A246-78F1E749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ED73-D77A-46C7-B705-AF38C919B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42F-0F03-4A2C-BBC8-6D1C4DE5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3B8-5E79-4A84-9BD1-4805E207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ering ArcG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A01A-13BE-4273-B147-15394744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070-D76D-412D-BB4C-ECD18656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86F-93C5-4256-8CB4-679873B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CC9-5219-4B9A-8B04-F07CB914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36F-676B-4D1B-94BF-81E690FD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C62-A8B3-432F-9EC2-14769AA0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792-E365-42B2-852B-0E7F800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61BF-36B9-48DB-8B9A-77D6D68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11B-3559-4121-887E-8C871DB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89A4-666D-4AE1-B520-373361EF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98A0-FF49-4EB4-B244-3EE33F1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7131-04AC-451B-B807-B3B0270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AFE-1C34-4157-A648-5A927CB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0E8F-1A2C-4AD6-82AD-9E4E702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3D4-6BD4-4F24-8C50-80C0C9C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A472-B8A5-4008-895D-53583E2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1EE5-5D4A-46AE-B521-2CD6CB71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849-2D5A-44F4-963F-595488DE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3F0F-9EF8-4718-9191-375A142F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95EE-7BFB-47C8-8F7E-A9E91EF4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3422-1746-4D3B-A266-3C26C71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85F7-2E49-471C-87B8-A10BD332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6C25-5AEF-4C89-B95A-6F10FE4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7DA-5FA7-4F3D-8890-8892FF92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97E6-A9E5-464B-A3D3-BAD20051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769E-6C6D-4BF0-BD68-D333D92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F099-3E49-4970-8195-2513BABA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F2FF-A19F-4074-8BCE-4037DF5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0C43-0822-408E-ABBB-9A6872F5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6CD5-940A-4B58-974E-AFB35833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ED15-1FBC-4937-863D-B9EB354E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ED9B-54F6-4EB3-9753-AA8D3050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8AAE-D4CC-42E3-A68B-19C5222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A461-83FE-4863-B9FB-3C967FDC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811-24B7-4797-881D-A1E0833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A497-98FD-45DC-BD7D-95E9F43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F8D4-9EDB-4B32-9CD5-DC003185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7638-3231-49DE-A662-239B801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EE26-5823-4AE3-9B6D-D30AD7D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5374-5448-4C0F-8999-CFFD568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4A5F-AD2E-42C5-8EA2-0DC358C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0FC4-94E4-4F50-8A90-B00EBF0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329E-937E-4FA7-BEEB-8164CEB3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1E27-F6B3-4F41-8BA6-F797AFB4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649-C0CD-42BE-AA25-6742FA3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865-1A00-46BD-80B2-47401DC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EE4-6D70-4B88-A9BA-025F7C3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89F-E87C-4993-916C-501B5B5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501-FB3E-472A-9BD5-5CE0D66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314-AD04-4C8D-9B09-A872486DF5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9 by Maribeth H.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FB8-59A5-49EF-BCD8-0B207C378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9D6-1B77-49F2-B268-67D1F286C8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9 by Maribeth H.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2D8-D5B5-4BBB-9922-0927D0783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C26-21A3-4C6E-8B07-1236037BF6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BCDB-EF69-4D3F-B1B9-31CCC8BBA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D000-6C40-4002-83C6-807A4E9617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08F-BC90-49AC-B83A-ED42F2B55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B50-3D40-4DD3-B036-4E3695F290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6092"/>
                </a:solidFill>
                <a:latin typeface="Calibri"/>
              </a:rPr>
              <a:t>Raster Analysis—Par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ED1-C354-4D5B-B9A0-CF07B680ED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ut and fill on a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124080" cy="22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2438280" y="4343400"/>
            <a:ext cx="3086280" cy="221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111096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1219320" y="1523880"/>
            <a:ext cx="3076560" cy="220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8" name="Text Box 7"/>
          <p:cNvSpPr/>
          <p:nvPr/>
        </p:nvSpPr>
        <p:spPr>
          <a:xfrm>
            <a:off x="2209680" y="3809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Initial surface] – [final surfa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921280" y="45529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4572000" y="4800600"/>
            <a:ext cx="129528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5105520" y="5410080"/>
            <a:ext cx="76176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5EC-9B01-4CB7-805C-B07F02DF8C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Hydrologic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719440" cy="373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45" name="Object 4"/>
          <p:cNvGraphicFramePr/>
          <p:nvPr/>
        </p:nvGraphicFramePr>
        <p:xfrm>
          <a:off x="609480" y="1523880"/>
          <a:ext cx="4343400" cy="36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343400" cy="366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304920" y="5486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streams, watersheds, and other hydrologic features based on analysis of a D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AC0-2F24-4480-9A8B-A47B243911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Distanc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7680" t="0" r="9759" b="0"/>
          <a:stretch/>
        </p:blipFill>
        <p:spPr>
          <a:xfrm>
            <a:off x="609480" y="1498680"/>
            <a:ext cx="3810240" cy="2530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1" name="Text Box 7"/>
          <p:cNvSpPr/>
          <p:nvPr/>
        </p:nvSpPr>
        <p:spPr>
          <a:xfrm>
            <a:off x="4800600" y="5410080"/>
            <a:ext cx="3048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 lin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85800" y="1523880"/>
            <a:ext cx="2895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ath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609480" y="5791320"/>
            <a:ext cx="1295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00360" cy="40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5" name="Picture 11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733920" cy="2025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5516-78B8-4C73-8DB1-8747683904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traight lin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87840" y="1598760"/>
            <a:ext cx="3656160" cy="33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s from a set of features (points, lines, polyg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s a grid where each cell represents distance to the closest of the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ance units are given in coordinate system map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04676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5"/>
          <p:cNvSpPr/>
          <p:nvPr/>
        </p:nvSpPr>
        <p:spPr>
          <a:xfrm>
            <a:off x="534600" y="61722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roads (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6183360" y="5138640"/>
            <a:ext cx="2609640" cy="141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2" name="Text Box 7"/>
          <p:cNvSpPr/>
          <p:nvPr/>
        </p:nvSpPr>
        <p:spPr>
          <a:xfrm>
            <a:off x="4352760" y="5033880"/>
            <a:ext cx="208944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ance function is the first step in in creating raster buf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400-1905-481E-98AF-A610E18F25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owest cost p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57940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7" name="Text Box 10"/>
          <p:cNvSpPr/>
          <p:nvPr/>
        </p:nvSpPr>
        <p:spPr>
          <a:xfrm>
            <a:off x="5715000" y="1295280"/>
            <a:ext cx="3429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Create start/stop shape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ost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cost distance grid and cost direction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west co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2514600" y="21337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>
            <a:off x="380880" y="266688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3"/>
          <a:srcRect l="7680" t="0" r="9759" b="0"/>
          <a:stretch/>
        </p:blipFill>
        <p:spPr>
          <a:xfrm>
            <a:off x="5943600" y="4648320"/>
            <a:ext cx="2971800" cy="197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1" name="Text Box 14"/>
          <p:cNvSpPr/>
          <p:nvPr/>
        </p:nvSpPr>
        <p:spPr>
          <a:xfrm>
            <a:off x="304920" y="3429000"/>
            <a:ext cx="1520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254400" y="3409920"/>
            <a:ext cx="104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380880" y="601992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124080" y="6019920"/>
            <a:ext cx="2362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8" descr=""/>
          <p:cNvPicPr/>
          <p:nvPr/>
        </p:nvPicPr>
        <p:blipFill>
          <a:blip r:embed="rId4"/>
          <a:stretch/>
        </p:blipFill>
        <p:spPr>
          <a:xfrm>
            <a:off x="3124080" y="4162320"/>
            <a:ext cx="2514600" cy="234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6" name="Picture 19" descr=""/>
          <p:cNvPicPr/>
          <p:nvPr/>
        </p:nvPicPr>
        <p:blipFill>
          <a:blip r:embed="rId5"/>
          <a:stretch/>
        </p:blipFill>
        <p:spPr>
          <a:xfrm>
            <a:off x="304920" y="4143240"/>
            <a:ext cx="2590560" cy="237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wheel spokes="1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4D3C-CAA9-4EA1-8906-FB5FE2682D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76092"/>
                </a:solidFill>
                <a:latin typeface="Calibri"/>
              </a:rPr>
              <a:t>Raster Analysis—</a:t>
            </a:r>
            <a:br>
              <a:rPr sz="4900"/>
            </a:br>
            <a:r>
              <a:rPr b="0" lang="en-US" sz="4900" spc="-1" strike="noStrike">
                <a:solidFill>
                  <a:srgbClr val="376092"/>
                </a:solidFill>
                <a:latin typeface="Calibri"/>
              </a:rPr>
              <a:t>End of Part 2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2E1-1F7C-4A2B-8D6D-6E19B5DAF0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Desired Learn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pplication of the following raster fun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las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hood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onal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0D5-4629-46D0-ABEF-D78DDE1919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Other raster analysis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698120"/>
            <a:ext cx="5027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ighborhoo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405400" y="1446120"/>
            <a:ext cx="299232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20D9-669B-4C39-AA86-62568079A0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eclass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638680" y="4052880"/>
            <a:ext cx="3299040" cy="250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6172200" y="19810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one set of grid value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or class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3124080" y="1917720"/>
            <a:ext cx="2590920" cy="18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5" name="Picture 9" descr=""/>
          <p:cNvPicPr/>
          <p:nvPr/>
        </p:nvPicPr>
        <p:blipFill>
          <a:blip r:embed="rId3"/>
          <a:stretch/>
        </p:blipFill>
        <p:spPr>
          <a:xfrm>
            <a:off x="304920" y="1917720"/>
            <a:ext cx="2666880" cy="177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6" name="Text Box 10"/>
          <p:cNvSpPr/>
          <p:nvPr/>
        </p:nvSpPr>
        <p:spPr>
          <a:xfrm>
            <a:off x="1146600" y="15127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250080" y="1523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 slope/lo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4"/>
          <a:stretch/>
        </p:blipFill>
        <p:spPr>
          <a:xfrm>
            <a:off x="609480" y="4419720"/>
            <a:ext cx="4419720" cy="15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9" name="Line 13"/>
          <p:cNvSpPr/>
          <p:nvPr/>
        </p:nvSpPr>
        <p:spPr>
          <a:xfrm>
            <a:off x="1371600" y="3505320"/>
            <a:ext cx="457200" cy="838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3505320" y="3580920"/>
            <a:ext cx="457200" cy="7621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B87-23A0-4FC9-8A5A-DEA96FDE8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urfa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943600" y="16002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sh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57940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Picture 11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2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58264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Picture 13" descr=""/>
          <p:cNvPicPr/>
          <p:nvPr/>
        </p:nvPicPr>
        <p:blipFill>
          <a:blip r:embed="rId4"/>
          <a:stretch/>
        </p:blipFill>
        <p:spPr>
          <a:xfrm>
            <a:off x="3108240" y="4098960"/>
            <a:ext cx="2575080" cy="25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8" name="Picture 14" descr=""/>
          <p:cNvPicPr/>
          <p:nvPr/>
        </p:nvPicPr>
        <p:blipFill>
          <a:blip r:embed="rId5"/>
          <a:stretch/>
        </p:blipFill>
        <p:spPr>
          <a:xfrm>
            <a:off x="5867280" y="4038480"/>
            <a:ext cx="2714760" cy="26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9D67-268F-422D-B74B-6EED37E045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lop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3625920" y="3513240"/>
          <a:ext cx="525780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5920" y="3513240"/>
                    <a:ext cx="5257800" cy="2881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41200" y="152280"/>
            <a:ext cx="318780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319392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5" name="Text Box 6"/>
          <p:cNvSpPr/>
          <p:nvPr/>
        </p:nvSpPr>
        <p:spPr>
          <a:xfrm>
            <a:off x="3768840" y="1511280"/>
            <a:ext cx="5105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slope of the surface based on surrounding ce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xpressed in degrees or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1EC3-ECB7-48EE-8069-FC9D98934C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Aspect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3516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296244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10" name="Object 5"/>
          <p:cNvGraphicFramePr/>
          <p:nvPr/>
        </p:nvGraphicFramePr>
        <p:xfrm>
          <a:off x="3635280" y="4254480"/>
          <a:ext cx="4716720" cy="22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254480"/>
                    <a:ext cx="4716720" cy="22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Text Box 6"/>
          <p:cNvSpPr/>
          <p:nvPr/>
        </p:nvSpPr>
        <p:spPr>
          <a:xfrm>
            <a:off x="3606840" y="1230480"/>
            <a:ext cx="5257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direction of steepest slope, e.g. which way the slop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represents direction from 0 degrees to 360 degrees, where 0/360 is Nor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areas are assigned a -1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562-07E1-4EA5-ADB8-3357B11250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280" y="313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Hillsh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724200" y="1457280"/>
            <a:ext cx="4953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s the brightness or illumination of a surface from a specified ligh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include terrain display and modeling satellite refle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28600" y="3505320"/>
          <a:ext cx="2878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05320"/>
                    <a:ext cx="2878200" cy="2895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260280" y="380880"/>
            <a:ext cx="288288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219" name="Object 6"/>
          <p:cNvGraphicFramePr/>
          <p:nvPr/>
        </p:nvGraphicFramePr>
        <p:xfrm>
          <a:off x="3772080" y="4057560"/>
          <a:ext cx="1795320" cy="155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72080" y="4057560"/>
                    <a:ext cx="1795320" cy="1557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1" name="Object 7"/>
          <p:cNvGraphicFramePr/>
          <p:nvPr/>
        </p:nvGraphicFramePr>
        <p:xfrm>
          <a:off x="6496200" y="4027320"/>
          <a:ext cx="1676160" cy="15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96200" y="4027320"/>
                    <a:ext cx="1676160" cy="150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Text Box 8"/>
          <p:cNvSpPr/>
          <p:nvPr/>
        </p:nvSpPr>
        <p:spPr>
          <a:xfrm>
            <a:off x="3619440" y="565776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direction of illumination source (315 by defa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267600" y="56275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ngle of the source above the horizon (45 de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F59E-17C6-4A11-9DB5-995E303034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Viewshed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87840" y="2008080"/>
            <a:ext cx="3656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areas visible from a set of observation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28600" y="2013120"/>
            <a:ext cx="4495680" cy="347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9" name="Text Box 6"/>
          <p:cNvSpPr/>
          <p:nvPr/>
        </p:nvSpPr>
        <p:spPr>
          <a:xfrm>
            <a:off x="5170320" y="360216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arameters are available for the tool version, such as the horizontal angle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352680" y="1828800"/>
            <a:ext cx="533520" cy="22096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 flipH="1">
            <a:off x="1676160" y="4191120"/>
            <a:ext cx="160020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1:07:44Z</dcterms:created>
  <dc:creator>Maribeth Price</dc:creator>
  <dc:description/>
  <dc:language>en-US</dc:language>
  <cp:lastModifiedBy>Svein Stoveland</cp:lastModifiedBy>
  <dcterms:modified xsi:type="dcterms:W3CDTF">2014-08-21T17:56:36Z</dcterms:modified>
  <cp:revision>151</cp:revision>
  <dc:subject/>
  <dc:title>Lesson 1</dc:title>
</cp:coreProperties>
</file>