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907588" cy="6858000"/>
  <p:notesSz cx="69342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775332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90320" y="4093920"/>
            <a:ext cx="775332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3783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63640" y="1904760"/>
            <a:ext cx="3783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90320" y="4093920"/>
            <a:ext cx="3783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63640" y="4093920"/>
            <a:ext cx="3783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249624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011840" y="1904760"/>
            <a:ext cx="249624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33360" y="1904760"/>
            <a:ext cx="249624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90320" y="4093920"/>
            <a:ext cx="249624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011840" y="4093920"/>
            <a:ext cx="249624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633360" y="4093920"/>
            <a:ext cx="249624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90320" y="1904760"/>
            <a:ext cx="77533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77533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37836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63640" y="1904760"/>
            <a:ext cx="37836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3520" y="22824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3783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63640" y="1904760"/>
            <a:ext cx="37836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90320" y="4093920"/>
            <a:ext cx="3783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37836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63640" y="1904760"/>
            <a:ext cx="3783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63640" y="4093920"/>
            <a:ext cx="3783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3783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63640" y="1904760"/>
            <a:ext cx="3783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90320" y="4093920"/>
            <a:ext cx="775332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55600" y="0"/>
            <a:ext cx="9637560" cy="6845400"/>
            <a:chOff x="255600" y="0"/>
            <a:chExt cx="9637560" cy="6845400"/>
          </a:xfrm>
        </p:grpSpPr>
        <p:sp>
          <p:nvSpPr>
            <p:cNvPr id="1" name="Rectangle 3"/>
            <p:cNvSpPr/>
            <p:nvPr/>
          </p:nvSpPr>
          <p:spPr>
            <a:xfrm>
              <a:off x="255600" y="0"/>
              <a:ext cx="258840" cy="6845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476280" y="0"/>
              <a:ext cx="404640" cy="4667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49200" y="0"/>
              <a:ext cx="1173240" cy="335268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39560" y="0"/>
              <a:ext cx="330480" cy="3886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41520" y="1467000"/>
              <a:ext cx="569880" cy="121896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50800" y="1409760"/>
              <a:ext cx="9342360" cy="133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262080" y="1409760"/>
              <a:ext cx="962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390320" y="1904760"/>
            <a:ext cx="77533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9103680" y="6486480"/>
            <a:ext cx="99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3B54-430B-4FA9-930A-5193C8F06C8B}" type="slidenum">
              <a:rPr b="0" i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74880" y="1946160"/>
            <a:ext cx="7021440" cy="150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Points, Vectors, Lines, Spheres and Matric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60240" y="6400800"/>
            <a:ext cx="412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Anthony Steed 2001-200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390320" y="1904760"/>
            <a:ext cx="77533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oint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Vecto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Lin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pher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atric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3D transformations as matric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mogenous co-ordinat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Basic Math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77533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In computer graphics we need mathematics both for describing our scenes and also for performing operations on them, such as projection and various transformations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oordinate systems (right- and left-handed), serve as a reference point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3 axes labelled x, y, z at right angles.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-ordinate System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3"/>
          <p:cNvSpPr/>
          <p:nvPr/>
        </p:nvSpPr>
        <p:spPr>
          <a:xfrm>
            <a:off x="2394000" y="4191120"/>
            <a:ext cx="1898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 flipV="1">
            <a:off x="2394000" y="259056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 flipH="1">
            <a:off x="1320480" y="4191120"/>
            <a:ext cx="107316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6"/>
          <p:cNvSpPr/>
          <p:nvPr/>
        </p:nvSpPr>
        <p:spPr>
          <a:xfrm>
            <a:off x="2394000" y="3962520"/>
            <a:ext cx="247680" cy="228600"/>
          </a:xfrm>
          <a:custGeom>
            <a:avLst/>
            <a:gdLst/>
            <a:ahLst/>
            <a:rect l="l" t="t" r="r" b="b"/>
            <a:pathLst>
              <a:path w="240" h="144">
                <a:moveTo>
                  <a:pt x="0" y="0"/>
                </a:moveTo>
                <a:lnTo>
                  <a:pt x="240" y="0"/>
                </a:lnTo>
                <a:lnTo>
                  <a:pt x="240" y="1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 flipH="1">
            <a:off x="2476080" y="4191120"/>
            <a:ext cx="1652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 flipH="1">
            <a:off x="2228760" y="4343400"/>
            <a:ext cx="247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4175640" y="415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28548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1432080" y="4917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1030320" y="5451480"/>
            <a:ext cx="353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ight-Handed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Z comes out of the scree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3"/>
          <p:cNvSpPr/>
          <p:nvPr/>
        </p:nvSpPr>
        <p:spPr>
          <a:xfrm>
            <a:off x="7016760" y="4165560"/>
            <a:ext cx="1898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4"/>
          <p:cNvSpPr/>
          <p:nvPr/>
        </p:nvSpPr>
        <p:spPr>
          <a:xfrm flipV="1">
            <a:off x="7016760" y="256500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5"/>
          <p:cNvSpPr/>
          <p:nvPr/>
        </p:nvSpPr>
        <p:spPr>
          <a:xfrm flipV="1">
            <a:off x="7016760" y="3352680"/>
            <a:ext cx="1238400" cy="812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6"/>
          <p:cNvSpPr/>
          <p:nvPr/>
        </p:nvSpPr>
        <p:spPr>
          <a:xfrm>
            <a:off x="7016760" y="3936960"/>
            <a:ext cx="247680" cy="228600"/>
          </a:xfrm>
          <a:custGeom>
            <a:avLst/>
            <a:gdLst/>
            <a:ahLst/>
            <a:rect l="l" t="t" r="r" b="b"/>
            <a:pathLst>
              <a:path w="240" h="144">
                <a:moveTo>
                  <a:pt x="0" y="0"/>
                </a:moveTo>
                <a:lnTo>
                  <a:pt x="240" y="0"/>
                </a:lnTo>
                <a:lnTo>
                  <a:pt x="240" y="1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7"/>
          <p:cNvSpPr/>
          <p:nvPr/>
        </p:nvSpPr>
        <p:spPr>
          <a:xfrm flipV="1">
            <a:off x="7264440" y="4038120"/>
            <a:ext cx="247680" cy="1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8"/>
          <p:cNvSpPr/>
          <p:nvPr/>
        </p:nvSpPr>
        <p:spPr>
          <a:xfrm flipH="1">
            <a:off x="7264440" y="4038480"/>
            <a:ext cx="247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8798400" y="413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7477560" y="2301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1"/>
          <p:cNvSpPr/>
          <p:nvPr/>
        </p:nvSpPr>
        <p:spPr>
          <a:xfrm>
            <a:off x="6054840" y="48927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5848920" y="5425920"/>
            <a:ext cx="31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ft-Handed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Z goes in to the scree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oints, P (x, y, z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77533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ives us a position in relation to the origin of our coordinate system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Vectors, V (x, y, z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77533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present a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rection (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nd magnitude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in 3D spac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Points != Vecto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ctor +Vector = Vector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int – Point = Vector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int + Vector = Poin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int + Point = ?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38080" y="563040"/>
            <a:ext cx="72673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Vectors, V (x, y, z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6215040" y="2031840"/>
            <a:ext cx="1906200" cy="1307880"/>
            <a:chOff x="6215040" y="2031840"/>
            <a:chExt cx="1906200" cy="1307880"/>
          </a:xfrm>
        </p:grpSpPr>
        <p:sp>
          <p:nvSpPr>
            <p:cNvPr id="81" name="Line 5"/>
            <p:cNvSpPr/>
            <p:nvPr/>
          </p:nvSpPr>
          <p:spPr>
            <a:xfrm flipV="1">
              <a:off x="6215040" y="2534760"/>
              <a:ext cx="409320" cy="80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6"/>
            <p:cNvSpPr/>
            <p:nvPr/>
          </p:nvSpPr>
          <p:spPr>
            <a:xfrm flipV="1">
              <a:off x="6643440" y="2058480"/>
              <a:ext cx="145872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7"/>
            <p:cNvSpPr/>
            <p:nvPr/>
          </p:nvSpPr>
          <p:spPr>
            <a:xfrm flipV="1">
              <a:off x="6218280" y="2043000"/>
              <a:ext cx="1902960" cy="12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8"/>
            <p:cNvSpPr/>
            <p:nvPr/>
          </p:nvSpPr>
          <p:spPr>
            <a:xfrm>
              <a:off x="6227280" y="247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9"/>
            <p:cNvSpPr/>
            <p:nvPr/>
          </p:nvSpPr>
          <p:spPr>
            <a:xfrm>
              <a:off x="6777720" y="2031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0"/>
            <p:cNvSpPr/>
            <p:nvPr/>
          </p:nvSpPr>
          <p:spPr>
            <a:xfrm>
              <a:off x="6992280" y="2653920"/>
              <a:ext cx="8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 + w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 Box 11"/>
          <p:cNvSpPr/>
          <p:nvPr/>
        </p:nvSpPr>
        <p:spPr>
          <a:xfrm>
            <a:off x="6828840" y="3124080"/>
            <a:ext cx="208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 ad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v + 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 flipV="1">
            <a:off x="1108080" y="2114640"/>
            <a:ext cx="782640" cy="85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3"/>
          <p:cNvSpPr/>
          <p:nvPr/>
        </p:nvSpPr>
        <p:spPr>
          <a:xfrm flipV="1">
            <a:off x="1542960" y="1828440"/>
            <a:ext cx="1494000" cy="160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1154160" y="2201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1793880" y="2449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2753280" y="2709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-1)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7"/>
          <p:cNvSpPr/>
          <p:nvPr/>
        </p:nvSpPr>
        <p:spPr>
          <a:xfrm flipH="1">
            <a:off x="2447640" y="2381400"/>
            <a:ext cx="765000" cy="85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8"/>
          <p:cNvSpPr/>
          <p:nvPr/>
        </p:nvSpPr>
        <p:spPr>
          <a:xfrm flipV="1">
            <a:off x="3851280" y="2315880"/>
            <a:ext cx="40788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3749040" y="2662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/2)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1019160" y="3368520"/>
            <a:ext cx="378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ar multiplication of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s (they remain paralle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1"/>
          <p:cNvSpPr/>
          <p:nvPr/>
        </p:nvSpPr>
        <p:spPr>
          <a:xfrm flipV="1">
            <a:off x="1224000" y="4992480"/>
            <a:ext cx="409680" cy="80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2"/>
          <p:cNvSpPr/>
          <p:nvPr/>
        </p:nvSpPr>
        <p:spPr>
          <a:xfrm flipV="1">
            <a:off x="1652760" y="4516200"/>
            <a:ext cx="145872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1236960" y="4932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1911960" y="43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1483920" y="5883120"/>
            <a:ext cx="232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 differ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- w = v + (-w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6"/>
          <p:cNvSpPr/>
          <p:nvPr/>
        </p:nvSpPr>
        <p:spPr>
          <a:xfrm flipV="1">
            <a:off x="3027240" y="5046480"/>
            <a:ext cx="409680" cy="80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7"/>
          <p:cNvSpPr/>
          <p:nvPr/>
        </p:nvSpPr>
        <p:spPr>
          <a:xfrm flipV="1">
            <a:off x="3029040" y="5374800"/>
            <a:ext cx="1457280" cy="476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8"/>
          <p:cNvSpPr/>
          <p:nvPr/>
        </p:nvSpPr>
        <p:spPr>
          <a:xfrm>
            <a:off x="3039480" y="4986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3703680" y="5484960"/>
            <a:ext cx="6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0"/>
          <p:cNvSpPr/>
          <p:nvPr/>
        </p:nvSpPr>
        <p:spPr>
          <a:xfrm>
            <a:off x="3537360" y="473724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- 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1"/>
          <p:cNvSpPr/>
          <p:nvPr/>
        </p:nvSpPr>
        <p:spPr>
          <a:xfrm flipH="1" flipV="1">
            <a:off x="3411000" y="5084640"/>
            <a:ext cx="10321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32"/>
          <p:cNvGrpSpPr/>
          <p:nvPr/>
        </p:nvGrpSpPr>
        <p:grpSpPr>
          <a:xfrm>
            <a:off x="5793480" y="4191120"/>
            <a:ext cx="2843640" cy="2134440"/>
            <a:chOff x="5793480" y="4191120"/>
            <a:chExt cx="2843640" cy="2134440"/>
          </a:xfrm>
        </p:grpSpPr>
        <p:sp>
          <p:nvSpPr>
            <p:cNvPr id="109" name="Line 33"/>
            <p:cNvSpPr/>
            <p:nvPr/>
          </p:nvSpPr>
          <p:spPr>
            <a:xfrm flipV="1">
              <a:off x="6164280" y="4233960"/>
              <a:ext cx="0" cy="185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34"/>
            <p:cNvSpPr/>
            <p:nvPr/>
          </p:nvSpPr>
          <p:spPr>
            <a:xfrm>
              <a:off x="6021720" y="5924520"/>
              <a:ext cx="261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35"/>
            <p:cNvSpPr/>
            <p:nvPr/>
          </p:nvSpPr>
          <p:spPr>
            <a:xfrm>
              <a:off x="8199000" y="5865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36"/>
            <p:cNvSpPr/>
            <p:nvPr/>
          </p:nvSpPr>
          <p:spPr>
            <a:xfrm>
              <a:off x="5793480" y="4191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37"/>
          <p:cNvSpPr/>
          <p:nvPr/>
        </p:nvSpPr>
        <p:spPr>
          <a:xfrm>
            <a:off x="6042240" y="634212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 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8"/>
          <p:cNvSpPr/>
          <p:nvPr/>
        </p:nvSpPr>
        <p:spPr>
          <a:xfrm>
            <a:off x="7174080" y="6384960"/>
            <a:ext cx="35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9"/>
          <p:cNvSpPr/>
          <p:nvPr/>
        </p:nvSpPr>
        <p:spPr>
          <a:xfrm flipV="1">
            <a:off x="6157800" y="4957560"/>
            <a:ext cx="1600200" cy="96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0"/>
          <p:cNvSpPr/>
          <p:nvPr/>
        </p:nvSpPr>
        <p:spPr>
          <a:xfrm>
            <a:off x="7521120" y="4519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1"/>
          <p:cNvSpPr/>
          <p:nvPr/>
        </p:nvSpPr>
        <p:spPr>
          <a:xfrm>
            <a:off x="6115680" y="5832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2"/>
          <p:cNvSpPr/>
          <p:nvPr/>
        </p:nvSpPr>
        <p:spPr>
          <a:xfrm>
            <a:off x="5365800" y="1905120"/>
            <a:ext cx="0" cy="479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3"/>
          <p:cNvSpPr/>
          <p:nvPr/>
        </p:nvSpPr>
        <p:spPr>
          <a:xfrm>
            <a:off x="0" y="419112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Vectors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77533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ngth (modulus) of a vecto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(x, y, z)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| =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unit vector: a vector can b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ise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such that it retains its direction, but is scaled to have unit length: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2716200" y="2495520"/>
                <a:ext cx="1733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5"/>
              <p:cNvSpPr txBox="1"/>
              <p:nvPr/>
            </p:nvSpPr>
            <p:spPr>
              <a:xfrm>
                <a:off x="2930400" y="5407200"/>
                <a:ext cx="296568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V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ector 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dulus of </m:t>
                            </m:r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V</m:t>
                                </m:r>
                              </m:e>
                            </m:bar>
                          </m:num>
                          <m:den>
                            <m:r>
                              <m:t xml:space="preserve">|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V</m:t>
                                </m:r>
                              </m:e>
                            </m:bar>
                            <m:r>
                              <m:t xml:space="preserve">|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25T10:30:52Z</dcterms:created>
  <dc:creator>Iqbal</dc:creator>
  <dc:description/>
  <dc:language>en-US</dc:language>
  <cp:lastModifiedBy>kafeel</cp:lastModifiedBy>
  <cp:lastPrinted>1999-10-31T16:31:28Z</cp:lastPrinted>
  <dcterms:modified xsi:type="dcterms:W3CDTF">2014-10-29T06:21:04Z</dcterms:modified>
  <cp:revision>75</cp:revision>
  <dc:subject/>
  <dc:title>Vectors</dc:title>
</cp:coreProperties>
</file>