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907588" cy="6858000"/>
  <p:notesSz cx="6934200" cy="9396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22824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90320" y="1904760"/>
            <a:ext cx="7753320" cy="199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90320" y="4093920"/>
            <a:ext cx="7753320" cy="199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23520" y="22824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90320" y="1904760"/>
            <a:ext cx="3783600" cy="199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363640" y="1904760"/>
            <a:ext cx="3783600" cy="199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90320" y="4093920"/>
            <a:ext cx="3783600" cy="199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363640" y="4093920"/>
            <a:ext cx="3783600" cy="199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23520" y="22824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90320" y="1904760"/>
            <a:ext cx="2496240" cy="199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011840" y="1904760"/>
            <a:ext cx="2496240" cy="199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633360" y="1904760"/>
            <a:ext cx="2496240" cy="199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90320" y="4093920"/>
            <a:ext cx="2496240" cy="199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4011840" y="4093920"/>
            <a:ext cx="2496240" cy="199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633360" y="4093920"/>
            <a:ext cx="2496240" cy="199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520" y="22824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90320" y="1904760"/>
            <a:ext cx="775332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520" y="22824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90320" y="1904760"/>
            <a:ext cx="7753320" cy="4190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3520" y="22824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90320" y="1904760"/>
            <a:ext cx="3783600" cy="4190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363640" y="1904760"/>
            <a:ext cx="3783600" cy="4190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520" y="22824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523520" y="228240"/>
            <a:ext cx="7696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23520" y="22824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90320" y="1904760"/>
            <a:ext cx="3783600" cy="199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363640" y="1904760"/>
            <a:ext cx="3783600" cy="4190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90320" y="4093920"/>
            <a:ext cx="3783600" cy="199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23520" y="22824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90320" y="1904760"/>
            <a:ext cx="3783600" cy="4190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363640" y="1904760"/>
            <a:ext cx="3783600" cy="199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363640" y="4093920"/>
            <a:ext cx="3783600" cy="199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3520" y="22824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90320" y="1904760"/>
            <a:ext cx="3783600" cy="199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63640" y="1904760"/>
            <a:ext cx="3783600" cy="199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90320" y="4093920"/>
            <a:ext cx="7753320" cy="199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255600" y="0"/>
            <a:ext cx="9637560" cy="6845400"/>
            <a:chOff x="255600" y="0"/>
            <a:chExt cx="9637560" cy="6845400"/>
          </a:xfrm>
        </p:grpSpPr>
        <p:sp>
          <p:nvSpPr>
            <p:cNvPr id="1" name="Rectangle 3"/>
            <p:cNvSpPr/>
            <p:nvPr/>
          </p:nvSpPr>
          <p:spPr>
            <a:xfrm>
              <a:off x="255600" y="0"/>
              <a:ext cx="258840" cy="6845400"/>
            </a:xfrm>
            <a:prstGeom prst="rect">
              <a:avLst/>
            </a:prstGeom>
            <a:gradFill rotWithShape="0">
              <a:gsLst>
                <a:gs pos="0">
                  <a:srgbClr val="e9e9e9"/>
                </a:gs>
                <a:gs pos="100000">
                  <a:srgbClr val="91919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476280" y="0"/>
              <a:ext cx="404640" cy="4667400"/>
            </a:xfrm>
            <a:prstGeom prst="rect">
              <a:avLst/>
            </a:prstGeom>
            <a:gradFill rotWithShape="0">
              <a:gsLst>
                <a:gs pos="0">
                  <a:srgbClr val="e9e9e9"/>
                </a:gs>
                <a:gs pos="100000">
                  <a:srgbClr val="91919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349200" y="0"/>
              <a:ext cx="1173240" cy="3352680"/>
            </a:xfrm>
            <a:prstGeom prst="rect">
              <a:avLst/>
            </a:prstGeom>
            <a:gradFill rotWithShape="0">
              <a:gsLst>
                <a:gs pos="0">
                  <a:srgbClr val="e9e9e9"/>
                </a:gs>
                <a:gs pos="100000">
                  <a:srgbClr val="91919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39560" y="0"/>
              <a:ext cx="330480" cy="3886200"/>
            </a:xfrm>
            <a:prstGeom prst="rect">
              <a:avLst/>
            </a:prstGeom>
            <a:gradFill rotWithShape="0">
              <a:gsLst>
                <a:gs pos="0">
                  <a:srgbClr val="e9e9e9"/>
                </a:gs>
                <a:gs pos="100000">
                  <a:srgbClr val="91919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641520" y="1467000"/>
              <a:ext cx="569880" cy="1218960"/>
            </a:xfrm>
            <a:prstGeom prst="rect">
              <a:avLst/>
            </a:prstGeom>
            <a:gradFill rotWithShape="0">
              <a:gsLst>
                <a:gs pos="0">
                  <a:srgbClr val="e9e9e9"/>
                </a:gs>
                <a:gs pos="100000">
                  <a:srgbClr val="91919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50800" y="1409760"/>
              <a:ext cx="9342360" cy="133200"/>
            </a:xfrm>
            <a:prstGeom prst="rect">
              <a:avLst/>
            </a:prstGeom>
            <a:gradFill rotWithShape="0">
              <a:gsLst>
                <a:gs pos="0">
                  <a:srgbClr val="e9e9e9"/>
                </a:gs>
                <a:gs pos="100000">
                  <a:srgbClr val="91919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9"/>
            <p:cNvSpPr/>
            <p:nvPr/>
          </p:nvSpPr>
          <p:spPr>
            <a:xfrm>
              <a:off x="262080" y="1409760"/>
              <a:ext cx="9624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23520" y="22824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1390320" y="1904760"/>
            <a:ext cx="7753320" cy="4190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12"/>
          <p:cNvSpPr/>
          <p:nvPr/>
        </p:nvSpPr>
        <p:spPr>
          <a:xfrm>
            <a:off x="9103680" y="6486480"/>
            <a:ext cx="99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5806F-C903-4927-A6A6-82CA51B80F48}" type="slidenum">
              <a:rPr b="0" i="1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874880" y="1946160"/>
            <a:ext cx="7021440" cy="1503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Points, Vectors, Lines, Spheres and Matrices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4"/>
          <p:cNvSpPr/>
          <p:nvPr/>
        </p:nvSpPr>
        <p:spPr>
          <a:xfrm>
            <a:off x="660240" y="6400800"/>
            <a:ext cx="412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©Anthony Steed 2001-200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85720" y="38862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1390320" y="1904760"/>
            <a:ext cx="7753320" cy="4190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Points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Vectors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Lines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Spheres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Matrices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3D transformations as matrices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omogenous co-ordinates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1523520" y="22824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Overview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23520" y="22824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Basic Maths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90320" y="1904760"/>
            <a:ext cx="7753320" cy="4190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In computer graphics we need mathematics both for describing our scenes and also for performing operations on them, such as projection and various transformations.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Coordinate systems (right- and left-handed), serve as a reference point.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3 axes labelled x, y, z at right angles. 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22824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Co-ordinate Systems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3"/>
          <p:cNvSpPr/>
          <p:nvPr/>
        </p:nvSpPr>
        <p:spPr>
          <a:xfrm>
            <a:off x="2394000" y="4191120"/>
            <a:ext cx="1898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4"/>
          <p:cNvSpPr/>
          <p:nvPr/>
        </p:nvSpPr>
        <p:spPr>
          <a:xfrm flipV="1">
            <a:off x="2394000" y="2590560"/>
            <a:ext cx="0" cy="1600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5"/>
          <p:cNvSpPr/>
          <p:nvPr/>
        </p:nvSpPr>
        <p:spPr>
          <a:xfrm flipH="1">
            <a:off x="1320480" y="4191120"/>
            <a:ext cx="1073160" cy="7617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Freeform 6"/>
          <p:cNvSpPr/>
          <p:nvPr/>
        </p:nvSpPr>
        <p:spPr>
          <a:xfrm>
            <a:off x="2394000" y="3962520"/>
            <a:ext cx="247680" cy="228600"/>
          </a:xfrm>
          <a:custGeom>
            <a:avLst/>
            <a:gdLst/>
            <a:ahLst/>
            <a:rect l="l" t="t" r="r" b="b"/>
            <a:pathLst>
              <a:path w="240" h="144">
                <a:moveTo>
                  <a:pt x="0" y="0"/>
                </a:moveTo>
                <a:lnTo>
                  <a:pt x="240" y="0"/>
                </a:lnTo>
                <a:lnTo>
                  <a:pt x="240" y="144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7"/>
          <p:cNvSpPr/>
          <p:nvPr/>
        </p:nvSpPr>
        <p:spPr>
          <a:xfrm flipH="1">
            <a:off x="2476080" y="4191120"/>
            <a:ext cx="16524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8"/>
          <p:cNvSpPr/>
          <p:nvPr/>
        </p:nvSpPr>
        <p:spPr>
          <a:xfrm flipH="1">
            <a:off x="2228760" y="4343400"/>
            <a:ext cx="2476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9"/>
          <p:cNvSpPr/>
          <p:nvPr/>
        </p:nvSpPr>
        <p:spPr>
          <a:xfrm>
            <a:off x="4175640" y="41562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0"/>
          <p:cNvSpPr/>
          <p:nvPr/>
        </p:nvSpPr>
        <p:spPr>
          <a:xfrm>
            <a:off x="2854800" y="23274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1"/>
          <p:cNvSpPr/>
          <p:nvPr/>
        </p:nvSpPr>
        <p:spPr>
          <a:xfrm>
            <a:off x="1432080" y="491796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2"/>
          <p:cNvSpPr/>
          <p:nvPr/>
        </p:nvSpPr>
        <p:spPr>
          <a:xfrm>
            <a:off x="1030320" y="5451480"/>
            <a:ext cx="3530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ight-Handed Syste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Z comes out of the screen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13"/>
          <p:cNvSpPr/>
          <p:nvPr/>
        </p:nvSpPr>
        <p:spPr>
          <a:xfrm>
            <a:off x="7016760" y="4165560"/>
            <a:ext cx="1898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14"/>
          <p:cNvSpPr/>
          <p:nvPr/>
        </p:nvSpPr>
        <p:spPr>
          <a:xfrm flipV="1">
            <a:off x="7016760" y="2565000"/>
            <a:ext cx="0" cy="1600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15"/>
          <p:cNvSpPr/>
          <p:nvPr/>
        </p:nvSpPr>
        <p:spPr>
          <a:xfrm flipV="1">
            <a:off x="7016760" y="3352680"/>
            <a:ext cx="1238400" cy="812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Freeform 16"/>
          <p:cNvSpPr/>
          <p:nvPr/>
        </p:nvSpPr>
        <p:spPr>
          <a:xfrm>
            <a:off x="7016760" y="3936960"/>
            <a:ext cx="247680" cy="228600"/>
          </a:xfrm>
          <a:custGeom>
            <a:avLst/>
            <a:gdLst/>
            <a:ahLst/>
            <a:rect l="l" t="t" r="r" b="b"/>
            <a:pathLst>
              <a:path w="240" h="144">
                <a:moveTo>
                  <a:pt x="0" y="0"/>
                </a:moveTo>
                <a:lnTo>
                  <a:pt x="240" y="0"/>
                </a:lnTo>
                <a:lnTo>
                  <a:pt x="240" y="144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17"/>
          <p:cNvSpPr/>
          <p:nvPr/>
        </p:nvSpPr>
        <p:spPr>
          <a:xfrm flipV="1">
            <a:off x="7264440" y="4038120"/>
            <a:ext cx="247680" cy="127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18"/>
          <p:cNvSpPr/>
          <p:nvPr/>
        </p:nvSpPr>
        <p:spPr>
          <a:xfrm flipH="1">
            <a:off x="7264440" y="4038480"/>
            <a:ext cx="2476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9"/>
          <p:cNvSpPr/>
          <p:nvPr/>
        </p:nvSpPr>
        <p:spPr>
          <a:xfrm>
            <a:off x="8798400" y="41306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20"/>
          <p:cNvSpPr/>
          <p:nvPr/>
        </p:nvSpPr>
        <p:spPr>
          <a:xfrm>
            <a:off x="7477560" y="23018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21"/>
          <p:cNvSpPr/>
          <p:nvPr/>
        </p:nvSpPr>
        <p:spPr>
          <a:xfrm>
            <a:off x="6054840" y="489276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22"/>
          <p:cNvSpPr/>
          <p:nvPr/>
        </p:nvSpPr>
        <p:spPr>
          <a:xfrm>
            <a:off x="5848920" y="5425920"/>
            <a:ext cx="3140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eft-Handed Syste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Z goes in to the screen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22824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Points, P (x, y, z)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90320" y="1904760"/>
            <a:ext cx="7753320" cy="4190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Gives us a position in relation to the origin of our coordinate system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3520" y="22824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Vectors, V (x, y, z)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90320" y="1904760"/>
            <a:ext cx="7753320" cy="4190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Represent a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irection (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and magnitude)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in 3D space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Points != Vectors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Vector +Vector = Vector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oint – Point = Vector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oint + Vector = Point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oint + Point = ?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38080" y="563040"/>
            <a:ext cx="726732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Vectors, V (x, y, z)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" name="Group 4"/>
          <p:cNvGrpSpPr/>
          <p:nvPr/>
        </p:nvGrpSpPr>
        <p:grpSpPr>
          <a:xfrm>
            <a:off x="6215040" y="2031840"/>
            <a:ext cx="1906200" cy="1307880"/>
            <a:chOff x="6215040" y="2031840"/>
            <a:chExt cx="1906200" cy="1307880"/>
          </a:xfrm>
        </p:grpSpPr>
        <p:sp>
          <p:nvSpPr>
            <p:cNvPr id="81" name="Line 5"/>
            <p:cNvSpPr/>
            <p:nvPr/>
          </p:nvSpPr>
          <p:spPr>
            <a:xfrm flipV="1">
              <a:off x="6215040" y="2534760"/>
              <a:ext cx="409320" cy="80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Line 6"/>
            <p:cNvSpPr/>
            <p:nvPr/>
          </p:nvSpPr>
          <p:spPr>
            <a:xfrm flipV="1">
              <a:off x="6643440" y="2058480"/>
              <a:ext cx="1458720" cy="476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Line 7"/>
            <p:cNvSpPr/>
            <p:nvPr/>
          </p:nvSpPr>
          <p:spPr>
            <a:xfrm flipV="1">
              <a:off x="6218280" y="2043000"/>
              <a:ext cx="1902960" cy="129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Text Box 8"/>
            <p:cNvSpPr/>
            <p:nvPr/>
          </p:nvSpPr>
          <p:spPr>
            <a:xfrm>
              <a:off x="6227280" y="24746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Text Box 9"/>
            <p:cNvSpPr/>
            <p:nvPr/>
          </p:nvSpPr>
          <p:spPr>
            <a:xfrm>
              <a:off x="6777720" y="20318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Text Box 10"/>
            <p:cNvSpPr/>
            <p:nvPr/>
          </p:nvSpPr>
          <p:spPr>
            <a:xfrm>
              <a:off x="6992280" y="2653920"/>
              <a:ext cx="877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v + w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" name="Text Box 11"/>
          <p:cNvSpPr/>
          <p:nvPr/>
        </p:nvSpPr>
        <p:spPr>
          <a:xfrm>
            <a:off x="6828840" y="3124080"/>
            <a:ext cx="208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ctor addi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m v + w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12"/>
          <p:cNvSpPr/>
          <p:nvPr/>
        </p:nvSpPr>
        <p:spPr>
          <a:xfrm flipV="1">
            <a:off x="1108080" y="2114640"/>
            <a:ext cx="782640" cy="853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13"/>
          <p:cNvSpPr/>
          <p:nvPr/>
        </p:nvSpPr>
        <p:spPr>
          <a:xfrm flipV="1">
            <a:off x="1542960" y="1828440"/>
            <a:ext cx="1494000" cy="1609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4"/>
          <p:cNvSpPr/>
          <p:nvPr/>
        </p:nvSpPr>
        <p:spPr>
          <a:xfrm>
            <a:off x="1154160" y="22017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5"/>
          <p:cNvSpPr/>
          <p:nvPr/>
        </p:nvSpPr>
        <p:spPr>
          <a:xfrm>
            <a:off x="1793880" y="24494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v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6"/>
          <p:cNvSpPr/>
          <p:nvPr/>
        </p:nvSpPr>
        <p:spPr>
          <a:xfrm>
            <a:off x="2753280" y="270972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-1)v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17"/>
          <p:cNvSpPr/>
          <p:nvPr/>
        </p:nvSpPr>
        <p:spPr>
          <a:xfrm flipH="1">
            <a:off x="2447640" y="2381400"/>
            <a:ext cx="765000" cy="853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18"/>
          <p:cNvSpPr/>
          <p:nvPr/>
        </p:nvSpPr>
        <p:spPr>
          <a:xfrm flipV="1">
            <a:off x="3851280" y="2315880"/>
            <a:ext cx="407880" cy="44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9"/>
          <p:cNvSpPr/>
          <p:nvPr/>
        </p:nvSpPr>
        <p:spPr>
          <a:xfrm>
            <a:off x="3749040" y="266220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1/2)V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20"/>
          <p:cNvSpPr/>
          <p:nvPr/>
        </p:nvSpPr>
        <p:spPr>
          <a:xfrm>
            <a:off x="1019160" y="3368520"/>
            <a:ext cx="378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alar multiplication of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ctors (they remain parallel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21"/>
          <p:cNvSpPr/>
          <p:nvPr/>
        </p:nvSpPr>
        <p:spPr>
          <a:xfrm flipV="1">
            <a:off x="1224000" y="4992480"/>
            <a:ext cx="409680" cy="80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2"/>
          <p:cNvSpPr/>
          <p:nvPr/>
        </p:nvSpPr>
        <p:spPr>
          <a:xfrm flipV="1">
            <a:off x="1652760" y="4516200"/>
            <a:ext cx="1458720" cy="476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3"/>
          <p:cNvSpPr/>
          <p:nvPr/>
        </p:nvSpPr>
        <p:spPr>
          <a:xfrm>
            <a:off x="1236960" y="4932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24"/>
          <p:cNvSpPr/>
          <p:nvPr/>
        </p:nvSpPr>
        <p:spPr>
          <a:xfrm>
            <a:off x="1911960" y="4390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25"/>
          <p:cNvSpPr/>
          <p:nvPr/>
        </p:nvSpPr>
        <p:spPr>
          <a:xfrm>
            <a:off x="1483920" y="5883120"/>
            <a:ext cx="2326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ctor differe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 - w = v + (-w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26"/>
          <p:cNvSpPr/>
          <p:nvPr/>
        </p:nvSpPr>
        <p:spPr>
          <a:xfrm flipV="1">
            <a:off x="3027240" y="5046480"/>
            <a:ext cx="409680" cy="80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27"/>
          <p:cNvSpPr/>
          <p:nvPr/>
        </p:nvSpPr>
        <p:spPr>
          <a:xfrm flipV="1">
            <a:off x="3029040" y="5374800"/>
            <a:ext cx="1457280" cy="476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28"/>
          <p:cNvSpPr/>
          <p:nvPr/>
        </p:nvSpPr>
        <p:spPr>
          <a:xfrm>
            <a:off x="3039480" y="4986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29"/>
          <p:cNvSpPr/>
          <p:nvPr/>
        </p:nvSpPr>
        <p:spPr>
          <a:xfrm>
            <a:off x="3703680" y="5484960"/>
            <a:ext cx="63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30"/>
          <p:cNvSpPr/>
          <p:nvPr/>
        </p:nvSpPr>
        <p:spPr>
          <a:xfrm>
            <a:off x="3537360" y="4737240"/>
            <a:ext cx="80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 - w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31"/>
          <p:cNvSpPr/>
          <p:nvPr/>
        </p:nvSpPr>
        <p:spPr>
          <a:xfrm flipH="1" flipV="1">
            <a:off x="3411000" y="5084640"/>
            <a:ext cx="1032120" cy="2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32"/>
          <p:cNvGrpSpPr/>
          <p:nvPr/>
        </p:nvGrpSpPr>
        <p:grpSpPr>
          <a:xfrm>
            <a:off x="5793480" y="4191120"/>
            <a:ext cx="2843640" cy="2134440"/>
            <a:chOff x="5793480" y="4191120"/>
            <a:chExt cx="2843640" cy="2134440"/>
          </a:xfrm>
        </p:grpSpPr>
        <p:sp>
          <p:nvSpPr>
            <p:cNvPr id="109" name="Line 33"/>
            <p:cNvSpPr/>
            <p:nvPr/>
          </p:nvSpPr>
          <p:spPr>
            <a:xfrm flipV="1">
              <a:off x="6164280" y="4233960"/>
              <a:ext cx="0" cy="1854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34"/>
            <p:cNvSpPr/>
            <p:nvPr/>
          </p:nvSpPr>
          <p:spPr>
            <a:xfrm>
              <a:off x="6021720" y="5924520"/>
              <a:ext cx="2615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Text Box 35"/>
            <p:cNvSpPr/>
            <p:nvPr/>
          </p:nvSpPr>
          <p:spPr>
            <a:xfrm>
              <a:off x="8199000" y="58658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Text Box 36"/>
            <p:cNvSpPr/>
            <p:nvPr/>
          </p:nvSpPr>
          <p:spPr>
            <a:xfrm>
              <a:off x="5793480" y="41911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Text Box 37"/>
          <p:cNvSpPr/>
          <p:nvPr/>
        </p:nvSpPr>
        <p:spPr>
          <a:xfrm>
            <a:off x="6042240" y="6342120"/>
            <a:ext cx="14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ctor O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38"/>
          <p:cNvSpPr/>
          <p:nvPr/>
        </p:nvSpPr>
        <p:spPr>
          <a:xfrm>
            <a:off x="7174080" y="6384960"/>
            <a:ext cx="355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39"/>
          <p:cNvSpPr/>
          <p:nvPr/>
        </p:nvSpPr>
        <p:spPr>
          <a:xfrm flipV="1">
            <a:off x="6157800" y="4957560"/>
            <a:ext cx="1600200" cy="968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40"/>
          <p:cNvSpPr/>
          <p:nvPr/>
        </p:nvSpPr>
        <p:spPr>
          <a:xfrm>
            <a:off x="7521120" y="45194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41"/>
          <p:cNvSpPr/>
          <p:nvPr/>
        </p:nvSpPr>
        <p:spPr>
          <a:xfrm>
            <a:off x="6115680" y="58323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42"/>
          <p:cNvSpPr/>
          <p:nvPr/>
        </p:nvSpPr>
        <p:spPr>
          <a:xfrm>
            <a:off x="5365800" y="1905120"/>
            <a:ext cx="0" cy="4797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43"/>
          <p:cNvSpPr/>
          <p:nvPr/>
        </p:nvSpPr>
        <p:spPr>
          <a:xfrm>
            <a:off x="0" y="4191120"/>
            <a:ext cx="990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3520" y="22824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Vectors </a:t>
            </a:r>
            <a:r>
              <a:rPr b="0" i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V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390320" y="1904760"/>
            <a:ext cx="7753320" cy="4190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Length (modulus) of a vector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V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(x, y, z)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V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| = 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 unit vector: a vector can b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rmalised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such that it retains its direction, but is scaled to have unit length: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Object 4"/>
              <p:cNvSpPr txBox="1"/>
              <p:nvPr/>
            </p:nvSpPr>
            <p:spPr>
              <a:xfrm>
                <a:off x="2716200" y="2495520"/>
                <a:ext cx="17334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Object 5"/>
              <p:cNvSpPr txBox="1"/>
              <p:nvPr/>
            </p:nvSpPr>
            <p:spPr>
              <a:xfrm>
                <a:off x="2930400" y="5407200"/>
                <a:ext cx="2965680" cy="82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V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vector V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modulus of </m:t>
                            </m:r>
                            <m:r>
                              <m:t xml:space="preserve">V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V</m:t>
                                </m:r>
                              </m:e>
                            </m:bar>
                          </m:num>
                          <m:den>
                            <m:r>
                              <m:t xml:space="preserve">|</m:t>
                            </m:r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V</m:t>
                                </m:r>
                              </m:e>
                            </m:bar>
                            <m:r>
                              <m:t xml:space="preserve">|</m:t>
                            </m:r>
                          </m:den>
                        </m:f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10-25T10:30:52Z</dcterms:created>
  <dc:creator>Iqbal</dc:creator>
  <dc:description/>
  <dc:language>en-US</dc:language>
  <cp:lastModifiedBy>kafeel</cp:lastModifiedBy>
  <cp:lastPrinted>1999-10-31T16:31:28Z</cp:lastPrinted>
  <dcterms:modified xsi:type="dcterms:W3CDTF">2014-10-29T06:21:04Z</dcterms:modified>
  <cp:revision>75</cp:revision>
  <dc:subject/>
  <dc:title>Vectors</dc:title>
</cp:coreProperties>
</file>