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F88-695A-4956-B7A1-D27F351D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089-754F-4D40-800A-F1808AD7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370-4DB9-4152-9ED6-9EF0FFA8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962-88BB-4CDC-8BAB-B44C6ECA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3EF-BEB7-41A0-B5C4-B75A706E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963-CFF8-4CA1-8E22-57217510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D09-C68E-45DC-B8E0-959060FC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F1C-B7CD-4275-95BD-6B4674DA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91B-3989-4F17-8CFB-211F32D4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51A-0D38-4E70-A73B-448CC028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0A6-46FA-4691-B3FF-97875238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4FD-DDB2-4E21-AC87-5ED15503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973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Gill Sans MT"/>
              </a:rPr>
              <a:t>Week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13040" y="6476760"/>
            <a:ext cx="531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Gill Sans MT"/>
              </a:rPr>
              <a:t>GEOG2750 – Earth Observation and GIS of the Physical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00600" y="6476760"/>
            <a:ext cx="95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FD40-2B68-4F93-9F43-1F7A5F87E5AA}" type="slidenum">
              <a:rPr b="0" lang="en-GB" sz="1400" spc="-1" strike="noStrike">
                <a:solidFill>
                  <a:srgbClr val="80808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ding the third dim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high relief areas variables such as altitude, aspect and slope strongly influence both human and physical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3D data model is therefore ess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a Digital Terrain Model (DT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rive information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ight (altitude), aspect and slope (gradi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sheds (catch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radiation and hill sh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t and fill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sl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lination of the land surface measured in degrees or perc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 x 3 cell fi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d best fit tilted plane that minimises squared difference in height for each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ermine slope of centre (target) ce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20"/>
          <p:cNvGrpSpPr/>
          <p:nvPr/>
        </p:nvGrpSpPr>
        <p:grpSpPr>
          <a:xfrm>
            <a:off x="3207240" y="4419720"/>
            <a:ext cx="2511720" cy="2010960"/>
            <a:chOff x="3207240" y="4419720"/>
            <a:chExt cx="2511720" cy="2010960"/>
          </a:xfrm>
        </p:grpSpPr>
        <p:sp>
          <p:nvSpPr>
            <p:cNvPr id="71" name="Rectangle 4"/>
            <p:cNvSpPr/>
            <p:nvPr/>
          </p:nvSpPr>
          <p:spPr>
            <a:xfrm>
              <a:off x="3207240" y="6067440"/>
              <a:ext cx="251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Slope = b</a:t>
              </a:r>
              <a:r>
                <a:rPr b="1" i="1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 + c</a:t>
              </a:r>
              <a:r>
                <a:rPr b="1" i="1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3830760" y="4419720"/>
              <a:ext cx="1587240" cy="14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3830760" y="4870440"/>
              <a:ext cx="158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3830760" y="5403960"/>
              <a:ext cx="158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57800" y="4419720"/>
              <a:ext cx="0" cy="14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4890960" y="4419720"/>
              <a:ext cx="0" cy="14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"/>
            <p:cNvSpPr/>
            <p:nvPr/>
          </p:nvSpPr>
          <p:spPr>
            <a:xfrm>
              <a:off x="3886200" y="44672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4495680" y="50007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2"/>
            <p:cNvSpPr/>
            <p:nvPr/>
          </p:nvSpPr>
          <p:spPr>
            <a:xfrm>
              <a:off x="4495680" y="44672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5029200" y="44672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3962520" y="50007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5"/>
            <p:cNvSpPr/>
            <p:nvPr/>
          </p:nvSpPr>
          <p:spPr>
            <a:xfrm>
              <a:off x="5029200" y="50007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6"/>
            <p:cNvSpPr/>
            <p:nvPr/>
          </p:nvSpPr>
          <p:spPr>
            <a:xfrm>
              <a:off x="3962520" y="54579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7"/>
            <p:cNvSpPr/>
            <p:nvPr/>
          </p:nvSpPr>
          <p:spPr>
            <a:xfrm>
              <a:off x="4495680" y="54579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8"/>
            <p:cNvSpPr/>
            <p:nvPr/>
          </p:nvSpPr>
          <p:spPr>
            <a:xfrm>
              <a:off x="5029200" y="54579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Rectangle 19"/>
          <p:cNvSpPr/>
          <p:nvPr/>
        </p:nvSpPr>
        <p:spPr>
          <a:xfrm>
            <a:off x="6319800" y="3352680"/>
            <a:ext cx="1900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z = a + bx + 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asp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ion the land surface is facing measured in degrees or nominal classes (N, S, E, W, NE, SE, NW, SW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3 x 3 filter and best fit tilted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ermine aspect for target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3357000" y="4343400"/>
            <a:ext cx="2412360" cy="2095560"/>
            <a:chOff x="3357000" y="4343400"/>
            <a:chExt cx="2412360" cy="2095560"/>
          </a:xfrm>
        </p:grpSpPr>
        <p:sp>
          <p:nvSpPr>
            <p:cNvPr id="90" name="Rectangle 5"/>
            <p:cNvSpPr/>
            <p:nvPr/>
          </p:nvSpPr>
          <p:spPr>
            <a:xfrm>
              <a:off x="3357000" y="6045120"/>
              <a:ext cx="2412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Aspect = tan</a:t>
              </a:r>
              <a:r>
                <a:rPr b="1" i="1" lang="en-GB" sz="2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 c /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3754440" y="4343400"/>
              <a:ext cx="1587600" cy="14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7"/>
            <p:cNvSpPr/>
            <p:nvPr/>
          </p:nvSpPr>
          <p:spPr>
            <a:xfrm>
              <a:off x="3754440" y="4794120"/>
              <a:ext cx="158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281480" y="4343400"/>
              <a:ext cx="0" cy="14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4815000" y="4343400"/>
              <a:ext cx="0" cy="14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10240" y="439092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4419720" y="49244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419720" y="43909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4952880" y="43909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3886200" y="49244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5"/>
            <p:cNvSpPr/>
            <p:nvPr/>
          </p:nvSpPr>
          <p:spPr>
            <a:xfrm>
              <a:off x="4952880" y="49244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6"/>
            <p:cNvSpPr/>
            <p:nvPr/>
          </p:nvSpPr>
          <p:spPr>
            <a:xfrm>
              <a:off x="3886200" y="53816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7"/>
            <p:cNvSpPr/>
            <p:nvPr/>
          </p:nvSpPr>
          <p:spPr>
            <a:xfrm>
              <a:off x="4419720" y="53816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8"/>
            <p:cNvSpPr/>
            <p:nvPr/>
          </p:nvSpPr>
          <p:spPr>
            <a:xfrm>
              <a:off x="4952880" y="53816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9"/>
            <p:cNvSpPr/>
            <p:nvPr/>
          </p:nvSpPr>
          <p:spPr>
            <a:xfrm>
              <a:off x="3754440" y="5327640"/>
              <a:ext cx="158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derived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y other variables describing terrain features/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llsh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file and plan curv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eature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2735280" cy="2743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3276720" y="838080"/>
            <a:ext cx="273528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6095880" y="838080"/>
            <a:ext cx="272916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tretch/>
        </p:blipFill>
        <p:spPr>
          <a:xfrm>
            <a:off x="457200" y="3657600"/>
            <a:ext cx="2743200" cy="273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5"/>
          <a:stretch/>
        </p:blipFill>
        <p:spPr>
          <a:xfrm>
            <a:off x="3276720" y="3662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6"/>
          <a:stretch/>
        </p:blipFill>
        <p:spPr>
          <a:xfrm>
            <a:off x="6089760" y="3657600"/>
            <a:ext cx="2724120" cy="27385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457200" y="838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095880" y="838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sl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276720" y="838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7200" y="365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hillsh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276720" y="3657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plan curv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6172200" y="36576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Feature ex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rrain visual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alytical hillsh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thographic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y azimuth, altitude, view distance/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rface drapes (point, line and area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imated ‘fly-through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f? mod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otore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otomo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4427640" y="2922480"/>
            <a:ext cx="4573440" cy="341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85840" y="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of hillshading and orthographic pro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892680" cy="465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1828800" y="2895480"/>
            <a:ext cx="2470320" cy="3443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905120" y="29718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Hillsh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52280" y="4419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535800" y="356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Orthographic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52280" y="3067200"/>
            <a:ext cx="4050000" cy="3022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"/>
          <p:cNvPicPr/>
          <p:nvPr/>
        </p:nvPicPr>
        <p:blipFill>
          <a:blip r:embed="rId2"/>
          <a:stretch/>
        </p:blipFill>
        <p:spPr>
          <a:xfrm>
            <a:off x="165240" y="750960"/>
            <a:ext cx="4028760" cy="2609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surface dr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4724280" y="1905120"/>
            <a:ext cx="4211640" cy="3138480"/>
          </a:xfrm>
          <a:prstGeom prst="rect">
            <a:avLst/>
          </a:prstGeom>
          <a:ln w="0">
            <a:noFill/>
          </a:ln>
        </p:spPr>
      </p:pic>
      <p:sp>
        <p:nvSpPr>
          <p:cNvPr id="133" name="Line 11"/>
          <p:cNvSpPr/>
          <p:nvPr/>
        </p:nvSpPr>
        <p:spPr>
          <a:xfrm>
            <a:off x="4191120" y="22860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152280" y="2133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2666880" y="33526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04920" y="38098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228600" y="12193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Rainf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4724280" y="19051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Draped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1674720" y="2844720"/>
            <a:ext cx="0" cy="5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 flipV="1">
            <a:off x="2671920" y="334944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Ms and DT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defini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M (Digital Elevation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t of regularly or irregularly spaced heigh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other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TM (Digital Terrain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t of regularly or irregularly spaced heigh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, with other information about terrain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dge lines, spot heights, troughs, coast/shore lines, drainage lines, faults, peaks, pits, pass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7480" y="49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K DEM 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52600" y="1716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dnance Surve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dform Panor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 scale: 1: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lution: 5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tical accuracy: ±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dform Prof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 scale: 1: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lution: 1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tical accuracy: ±0.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28" descr=""/>
          <p:cNvPicPr/>
          <p:nvPr/>
        </p:nvPicPr>
        <p:blipFill>
          <a:blip r:embed="rId1"/>
          <a:stretch/>
        </p:blipFill>
        <p:spPr>
          <a:xfrm>
            <a:off x="649440" y="1430280"/>
            <a:ext cx="3859200" cy="3922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29" descr=""/>
          <p:cNvPicPr/>
          <p:nvPr/>
        </p:nvPicPr>
        <p:blipFill>
          <a:blip r:embed="rId2"/>
          <a:stretch/>
        </p:blipFill>
        <p:spPr>
          <a:xfrm>
            <a:off x="4583160" y="1398600"/>
            <a:ext cx="3881520" cy="3944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30"/>
          <p:cNvSpPr/>
          <p:nvPr/>
        </p:nvSpPr>
        <p:spPr>
          <a:xfrm>
            <a:off x="1171440" y="5337000"/>
            <a:ext cx="29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Landform Pano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31"/>
          <p:cNvSpPr/>
          <p:nvPr/>
        </p:nvSpPr>
        <p:spPr>
          <a:xfrm>
            <a:off x="5095800" y="5351400"/>
            <a:ext cx="29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Landform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DAR data </a:t>
            </a:r>
            <a:br>
              <a:rPr sz="32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LIght Detection And Rang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H:\Images\Miscellaneous\lidarriver.jpg"/>
          <p:cNvPicPr/>
          <p:nvPr/>
        </p:nvPicPr>
        <p:blipFill>
          <a:blip r:embed="rId1"/>
          <a:stretch/>
        </p:blipFill>
        <p:spPr>
          <a:xfrm>
            <a:off x="415800" y="1057320"/>
            <a:ext cx="4346640" cy="434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:\Images\Miscellaneous\lidar2.gif"/>
          <p:cNvPicPr/>
          <p:nvPr/>
        </p:nvPicPr>
        <p:blipFill>
          <a:blip r:embed="rId2"/>
          <a:stretch/>
        </p:blipFill>
        <p:spPr>
          <a:xfrm>
            <a:off x="5619600" y="3224160"/>
            <a:ext cx="3057840" cy="305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:\Images\Miscellaneous\lidarflood.gif"/>
          <p:cNvPicPr/>
          <p:nvPr/>
        </p:nvPicPr>
        <p:blipFill>
          <a:blip r:embed="rId3"/>
          <a:stretch/>
        </p:blipFill>
        <p:spPr>
          <a:xfrm>
            <a:off x="4952880" y="1055520"/>
            <a:ext cx="3044880" cy="3044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387360" y="5560920"/>
            <a:ext cx="41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orizontal resolution: 2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Vertical accuracy: ± 2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lling building and topological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main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gital Elevation Models (DEMs) based on data sampled on a regular grid (latt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iangular Irregular Networks (TINs) based on irregular sampled data and Delaunay trian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Ms and T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3009960" cy="339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3112920" cy="3444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990720" y="2133720"/>
            <a:ext cx="31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DEM with sample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800600" y="2133720"/>
            <a:ext cx="31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TIN based on same sample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antages/disad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1"/>
          <a:stretch/>
        </p:blipFill>
        <p:spPr>
          <a:xfrm>
            <a:off x="579600" y="1042920"/>
            <a:ext cx="788184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rived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mary use of DTMs is calculation of three main terrain vari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titude above da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p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rection area of terrain is f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l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adient or angle of ter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14:58:26Z</dcterms:created>
  <dc:creator>Dr Steve Carver</dc:creator>
  <dc:description/>
  <dc:language>en-US</dc:language>
  <cp:lastModifiedBy>kafeel</cp:lastModifiedBy>
  <dcterms:modified xsi:type="dcterms:W3CDTF">2014-10-29T06:49:56Z</dcterms:modified>
  <cp:revision>28</cp:revision>
  <dc:subject/>
  <dc:title>PowerPoint Presentation</dc:title>
</cp:coreProperties>
</file>