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BA19-AC9A-4DB3-9780-009C6429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5E8C-369B-4250-B570-C3DB5D1F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D7F2-A43E-4013-99F5-3FFA27DF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4F6B-DF32-4829-8161-EEA070E3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8A04-2F32-439A-9F87-07C33014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AB7B-92C9-464E-BD31-14DBBF1B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830-43BA-4661-93F2-E62753D3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3E88-DEDA-4A32-AAF8-D80273A8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F604-10AD-488A-ABD3-A8365D1F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5058-4151-443A-B062-4721BCBD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C69-C0D4-43DF-879D-84866D00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CFBD-BD9D-4676-950B-D1FA99D5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973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Gill Sans MT"/>
              </a:rPr>
              <a:t>Week 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13040" y="6476760"/>
            <a:ext cx="5317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Gill Sans MT"/>
              </a:rPr>
              <a:t>GEOG2750 – Earth Observation and GIS of the Physical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00600" y="6476760"/>
            <a:ext cx="957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575B-60AB-43AD-83DE-1D783380CA0B}" type="slidenum">
              <a:rPr b="0" lang="en-GB" sz="1400" spc="-1" strike="noStrike">
                <a:solidFill>
                  <a:srgbClr val="80808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ding the third dim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high relief areas variables such as altitude, aspect and slope strongly influence both human and physical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3D data model is therefore ess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a Digital Terrain Model (DT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rive information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ight (altitude), aspect and slope (gradi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tersheds (catch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ar radiation and hill sh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ut and fill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lculating sl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lination of the land surface measured in degrees or perc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 x 3 cell fi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d best fit tilted plane that minimises squared difference in height for each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termine slope of centre (target) ce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20"/>
          <p:cNvGrpSpPr/>
          <p:nvPr/>
        </p:nvGrpSpPr>
        <p:grpSpPr>
          <a:xfrm>
            <a:off x="3207240" y="4419720"/>
            <a:ext cx="2511720" cy="2010960"/>
            <a:chOff x="3207240" y="4419720"/>
            <a:chExt cx="2511720" cy="2010960"/>
          </a:xfrm>
        </p:grpSpPr>
        <p:sp>
          <p:nvSpPr>
            <p:cNvPr id="71" name="Rectangle 4"/>
            <p:cNvSpPr/>
            <p:nvPr/>
          </p:nvSpPr>
          <p:spPr>
            <a:xfrm>
              <a:off x="3207240" y="6067440"/>
              <a:ext cx="2511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Slope = b</a:t>
              </a:r>
              <a:r>
                <a:rPr b="1" i="1" lang="en-GB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 + c</a:t>
              </a:r>
              <a:r>
                <a:rPr b="1" i="1" lang="en-GB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5"/>
            <p:cNvSpPr/>
            <p:nvPr/>
          </p:nvSpPr>
          <p:spPr>
            <a:xfrm>
              <a:off x="3830760" y="4419720"/>
              <a:ext cx="1587240" cy="14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6"/>
            <p:cNvSpPr/>
            <p:nvPr/>
          </p:nvSpPr>
          <p:spPr>
            <a:xfrm>
              <a:off x="3830760" y="4870440"/>
              <a:ext cx="158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3830760" y="5403960"/>
              <a:ext cx="158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4357800" y="4419720"/>
              <a:ext cx="0" cy="143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4890960" y="4419720"/>
              <a:ext cx="0" cy="143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0"/>
            <p:cNvSpPr/>
            <p:nvPr/>
          </p:nvSpPr>
          <p:spPr>
            <a:xfrm>
              <a:off x="3886200" y="44672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1"/>
            <p:cNvSpPr/>
            <p:nvPr/>
          </p:nvSpPr>
          <p:spPr>
            <a:xfrm>
              <a:off x="4495680" y="50007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2"/>
            <p:cNvSpPr/>
            <p:nvPr/>
          </p:nvSpPr>
          <p:spPr>
            <a:xfrm>
              <a:off x="4495680" y="44672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3"/>
            <p:cNvSpPr/>
            <p:nvPr/>
          </p:nvSpPr>
          <p:spPr>
            <a:xfrm>
              <a:off x="5029200" y="44672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3962520" y="50007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5"/>
            <p:cNvSpPr/>
            <p:nvPr/>
          </p:nvSpPr>
          <p:spPr>
            <a:xfrm>
              <a:off x="5029200" y="50007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6"/>
            <p:cNvSpPr/>
            <p:nvPr/>
          </p:nvSpPr>
          <p:spPr>
            <a:xfrm>
              <a:off x="3962520" y="54579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7"/>
            <p:cNvSpPr/>
            <p:nvPr/>
          </p:nvSpPr>
          <p:spPr>
            <a:xfrm>
              <a:off x="4495680" y="54579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8"/>
            <p:cNvSpPr/>
            <p:nvPr/>
          </p:nvSpPr>
          <p:spPr>
            <a:xfrm>
              <a:off x="5029200" y="54579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Rectangle 19"/>
          <p:cNvSpPr/>
          <p:nvPr/>
        </p:nvSpPr>
        <p:spPr>
          <a:xfrm>
            <a:off x="6319800" y="3352680"/>
            <a:ext cx="1900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z = a + bx + 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lculating asp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ion the land surface is facing measured in degrees or nominal classes (N, S, E, W, NE, SE, NW, SW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 3 x 3 filter and best fit tilted 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termine aspect for target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3357000" y="4343400"/>
            <a:ext cx="2412360" cy="2095560"/>
            <a:chOff x="3357000" y="4343400"/>
            <a:chExt cx="2412360" cy="2095560"/>
          </a:xfrm>
        </p:grpSpPr>
        <p:sp>
          <p:nvSpPr>
            <p:cNvPr id="90" name="Rectangle 5"/>
            <p:cNvSpPr/>
            <p:nvPr/>
          </p:nvSpPr>
          <p:spPr>
            <a:xfrm>
              <a:off x="3357000" y="6045120"/>
              <a:ext cx="2412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Aspect = tan</a:t>
              </a:r>
              <a:r>
                <a:rPr b="1" i="1" lang="en-GB" sz="20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 c /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3754440" y="4343400"/>
              <a:ext cx="1587600" cy="14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7"/>
            <p:cNvSpPr/>
            <p:nvPr/>
          </p:nvSpPr>
          <p:spPr>
            <a:xfrm>
              <a:off x="3754440" y="4794120"/>
              <a:ext cx="158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281480" y="4343400"/>
              <a:ext cx="0" cy="143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4815000" y="4343400"/>
              <a:ext cx="0" cy="143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10240" y="439092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4419720" y="49244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4419720" y="43909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4952880" y="43909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3886200" y="49244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5"/>
            <p:cNvSpPr/>
            <p:nvPr/>
          </p:nvSpPr>
          <p:spPr>
            <a:xfrm>
              <a:off x="4952880" y="49244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6"/>
            <p:cNvSpPr/>
            <p:nvPr/>
          </p:nvSpPr>
          <p:spPr>
            <a:xfrm>
              <a:off x="3886200" y="53816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7"/>
            <p:cNvSpPr/>
            <p:nvPr/>
          </p:nvSpPr>
          <p:spPr>
            <a:xfrm>
              <a:off x="4419720" y="53816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18"/>
            <p:cNvSpPr/>
            <p:nvPr/>
          </p:nvSpPr>
          <p:spPr>
            <a:xfrm>
              <a:off x="4952880" y="53816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9"/>
            <p:cNvSpPr/>
            <p:nvPr/>
          </p:nvSpPr>
          <p:spPr>
            <a:xfrm>
              <a:off x="3754440" y="5327640"/>
              <a:ext cx="158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ther derived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y other variables describing terrain features/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illsh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file and plan curv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eature ex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2735280" cy="2743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3276720" y="838080"/>
            <a:ext cx="273528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6095880" y="838080"/>
            <a:ext cx="272916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4"/>
          <a:stretch/>
        </p:blipFill>
        <p:spPr>
          <a:xfrm>
            <a:off x="457200" y="3657600"/>
            <a:ext cx="2743200" cy="273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5"/>
          <a:stretch/>
        </p:blipFill>
        <p:spPr>
          <a:xfrm>
            <a:off x="3276720" y="3662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6"/>
          <a:stretch/>
        </p:blipFill>
        <p:spPr>
          <a:xfrm>
            <a:off x="6089760" y="3657600"/>
            <a:ext cx="2724120" cy="27385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9"/>
          <p:cNvSpPr/>
          <p:nvPr/>
        </p:nvSpPr>
        <p:spPr>
          <a:xfrm>
            <a:off x="457200" y="838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ill Sans MT"/>
              </a:rPr>
              <a:t>he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095880" y="838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sl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3276720" y="838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ill Sans MT"/>
              </a:rPr>
              <a:t>asp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57200" y="3657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hillsh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3276720" y="36576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plan curv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6172200" y="36576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ill Sans MT"/>
              </a:rPr>
              <a:t>Feature ex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errain visual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alytical hillsh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thographic 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y azimuth, altitude, view distance/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rface drapes (point, line and area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imated ‘fly-through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f? mod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otore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otomo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" descr=""/>
          <p:cNvPicPr/>
          <p:nvPr/>
        </p:nvPicPr>
        <p:blipFill>
          <a:blip r:embed="rId1"/>
          <a:stretch/>
        </p:blipFill>
        <p:spPr>
          <a:xfrm>
            <a:off x="4427640" y="2922480"/>
            <a:ext cx="4573440" cy="3413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85840" y="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 of hillshading and orthographic proj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892680" cy="4653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3"/>
          <a:stretch/>
        </p:blipFill>
        <p:spPr>
          <a:xfrm>
            <a:off x="1828800" y="2895480"/>
            <a:ext cx="2470320" cy="34434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1905120" y="29718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ill Sans MT"/>
              </a:rPr>
              <a:t>Hillsh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52280" y="44197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6535800" y="356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Orthographic proj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52280" y="3067200"/>
            <a:ext cx="4050000" cy="3022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"/>
          <p:cNvPicPr/>
          <p:nvPr/>
        </p:nvPicPr>
        <p:blipFill>
          <a:blip r:embed="rId2"/>
          <a:stretch/>
        </p:blipFill>
        <p:spPr>
          <a:xfrm>
            <a:off x="165240" y="750960"/>
            <a:ext cx="4028760" cy="2609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 surface dr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4724280" y="1905120"/>
            <a:ext cx="4211640" cy="3138480"/>
          </a:xfrm>
          <a:prstGeom prst="rect">
            <a:avLst/>
          </a:prstGeom>
          <a:ln w="0">
            <a:noFill/>
          </a:ln>
        </p:spPr>
      </p:pic>
      <p:sp>
        <p:nvSpPr>
          <p:cNvPr id="133" name="Line 11"/>
          <p:cNvSpPr/>
          <p:nvPr/>
        </p:nvSpPr>
        <p:spPr>
          <a:xfrm>
            <a:off x="4191120" y="22860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152280" y="21337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2666880" y="3352680"/>
            <a:ext cx="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304920" y="38098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228600" y="12193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ill Sans MT"/>
              </a:rPr>
              <a:t>Rainf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4724280" y="19051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ill Sans MT"/>
              </a:rPr>
              <a:t>Draped 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1674720" y="2844720"/>
            <a:ext cx="0" cy="55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1"/>
          <p:cNvSpPr/>
          <p:nvPr/>
        </p:nvSpPr>
        <p:spPr>
          <a:xfrm flipV="1">
            <a:off x="2671920" y="3349440"/>
            <a:ext cx="0" cy="74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Ms and DT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definition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M (Digital Elevation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t of regularly or irregularly spaced heigh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other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TM (Digital Terrain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t of regularly or irregularly spaced heigh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, with other information about terrain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idge lines, spot heights, troughs, coast/shore lines, drainage lines, faults, peaks, pits, pass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7480" y="49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K DEM data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52600" y="1716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dnance Surve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dform Panora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 scale: 1: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olution: 5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tical accuracy: ±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dform Prof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 scale: 1:1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olution: 1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tical accuracy: ±0.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28" descr=""/>
          <p:cNvPicPr/>
          <p:nvPr/>
        </p:nvPicPr>
        <p:blipFill>
          <a:blip r:embed="rId1"/>
          <a:stretch/>
        </p:blipFill>
        <p:spPr>
          <a:xfrm>
            <a:off x="649440" y="1430280"/>
            <a:ext cx="3859200" cy="3922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29" descr=""/>
          <p:cNvPicPr/>
          <p:nvPr/>
        </p:nvPicPr>
        <p:blipFill>
          <a:blip r:embed="rId2"/>
          <a:stretch/>
        </p:blipFill>
        <p:spPr>
          <a:xfrm>
            <a:off x="4583160" y="1398600"/>
            <a:ext cx="3881520" cy="39448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30"/>
          <p:cNvSpPr/>
          <p:nvPr/>
        </p:nvSpPr>
        <p:spPr>
          <a:xfrm>
            <a:off x="1171440" y="5337000"/>
            <a:ext cx="29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Landform Pano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31"/>
          <p:cNvSpPr/>
          <p:nvPr/>
        </p:nvSpPr>
        <p:spPr>
          <a:xfrm>
            <a:off x="5095800" y="5351400"/>
            <a:ext cx="29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Landform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6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DAR data </a:t>
            </a:r>
            <a:br>
              <a:rPr sz="32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LIght Detection And Rang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H:\Images\Miscellaneous\lidarriver.jpg"/>
          <p:cNvPicPr/>
          <p:nvPr/>
        </p:nvPicPr>
        <p:blipFill>
          <a:blip r:embed="rId1"/>
          <a:stretch/>
        </p:blipFill>
        <p:spPr>
          <a:xfrm>
            <a:off x="415800" y="1057320"/>
            <a:ext cx="4346640" cy="434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:\Images\Miscellaneous\lidar2.gif"/>
          <p:cNvPicPr/>
          <p:nvPr/>
        </p:nvPicPr>
        <p:blipFill>
          <a:blip r:embed="rId2"/>
          <a:stretch/>
        </p:blipFill>
        <p:spPr>
          <a:xfrm>
            <a:off x="5619600" y="3224160"/>
            <a:ext cx="3057840" cy="305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H:\Images\Miscellaneous\lidarflood.gif"/>
          <p:cNvPicPr/>
          <p:nvPr/>
        </p:nvPicPr>
        <p:blipFill>
          <a:blip r:embed="rId3"/>
          <a:stretch/>
        </p:blipFill>
        <p:spPr>
          <a:xfrm>
            <a:off x="4952880" y="1055520"/>
            <a:ext cx="3044880" cy="30448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387360" y="5560920"/>
            <a:ext cx="41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Horizontal resolution: 2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Vertical accuracy: ± 2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delling building and topological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main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gital Elevation Models (DEMs) based on data sampled on a regular grid (latti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iangular Irregular Networks (TINs) based on irregular sampled data and Delaunay trian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Ms and T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3009960" cy="3399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3112920" cy="34448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990720" y="2133720"/>
            <a:ext cx="317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DEM with sample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800600" y="2133720"/>
            <a:ext cx="317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TIN based on same sample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antages/disadvanta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Rectangle 3" descr=""/>
          <p:cNvPicPr/>
          <p:nvPr/>
        </p:nvPicPr>
        <p:blipFill>
          <a:blip r:embed="rId1"/>
          <a:stretch/>
        </p:blipFill>
        <p:spPr>
          <a:xfrm>
            <a:off x="579600" y="1042920"/>
            <a:ext cx="788184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rived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imary use of DTMs is calculation of three main terrain variab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titude above da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p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rection area of terrain is f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l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adient or angle of ter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14:58:26Z</dcterms:created>
  <dc:creator>Dr Steve Carver</dc:creator>
  <dc:description/>
  <dc:language>en-US</dc:language>
  <cp:lastModifiedBy>kafeel</cp:lastModifiedBy>
  <dcterms:modified xsi:type="dcterms:W3CDTF">2014-10-29T06:49:56Z</dcterms:modified>
  <cp:revision>28</cp:revision>
  <dc:subject/>
  <dc:title>PowerPoint Presentation</dc:title>
</cp:coreProperties>
</file>