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566-1596-4C14-824B-550DCBCF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90D-7275-4C66-9E41-EB335BB1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198-229E-4AF6-B855-32EA4213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389-D570-4DDD-9A57-83C7796B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028-FFDB-414F-B916-76E86A1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9B8-3CCA-4C43-A37E-3DC7145E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382-FC0B-4D18-A080-5CF56EC1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131-8E85-4B9E-B833-A40E20A8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7F8-61B7-46EA-883E-FE8CDA6B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529-5540-461B-A0CC-3F2CCDDD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7A8-3056-4234-916A-47C73295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A6B-759B-4CC0-8759-904A62DE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97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Gill Sans MT"/>
              </a:rPr>
              <a:t>Week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13040" y="6476760"/>
            <a:ext cx="531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Gill Sans MT"/>
              </a:rPr>
              <a:t>GEOG2750 – Earth Observation and GIS of the Physical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0600" y="6476760"/>
            <a:ext cx="95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E6B3-CF46-40E5-AD30-B8908C6030A8}" type="slidenum">
              <a:rPr b="0" lang="en-GB" sz="1400" spc="-1" strike="noStrike">
                <a:solidFill>
                  <a:srgbClr val="80808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ing the third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high relief areas variables such as altitude, aspect and slope strongly influence both human and physical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D data model is therefore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a Digital Terrain Model (D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rive information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ight (altitude), aspect and slope (gradi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sheds (catch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adiation and hill sh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t and fill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lination of the land surface measured in degrees or per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 x 3 cell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best fit tilted plane that minimises squared difference in height for each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e slope of centre (target) c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20"/>
          <p:cNvGrpSpPr/>
          <p:nvPr/>
        </p:nvGrpSpPr>
        <p:grpSpPr>
          <a:xfrm>
            <a:off x="3207240" y="4419720"/>
            <a:ext cx="2511720" cy="2010960"/>
            <a:chOff x="3207240" y="4419720"/>
            <a:chExt cx="2511720" cy="2010960"/>
          </a:xfrm>
        </p:grpSpPr>
        <p:sp>
          <p:nvSpPr>
            <p:cNvPr id="71" name="Rectangle 4"/>
            <p:cNvSpPr/>
            <p:nvPr/>
          </p:nvSpPr>
          <p:spPr>
            <a:xfrm>
              <a:off x="3207240" y="6067440"/>
              <a:ext cx="251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Slope = b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+ c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3830760" y="4419720"/>
              <a:ext cx="158724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3830760" y="487044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3830760" y="540396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57800" y="441972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4890960" y="441972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"/>
            <p:cNvSpPr/>
            <p:nvPr/>
          </p:nvSpPr>
          <p:spPr>
            <a:xfrm>
              <a:off x="3886200" y="44672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449568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4495680" y="44672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029200" y="44672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396252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5"/>
            <p:cNvSpPr/>
            <p:nvPr/>
          </p:nvSpPr>
          <p:spPr>
            <a:xfrm>
              <a:off x="502920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396252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449568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502920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Rectangle 19"/>
          <p:cNvSpPr/>
          <p:nvPr/>
        </p:nvSpPr>
        <p:spPr>
          <a:xfrm>
            <a:off x="6319800" y="3352680"/>
            <a:ext cx="190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 = a + bx + 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asp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ion the land surface is facing measured in degrees or nominal classes (N, S, E, W, NE, SE, NW, SW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3 x 3 filter and best fit tilted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e aspect for target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3357000" y="4343400"/>
            <a:ext cx="2412360" cy="2095560"/>
            <a:chOff x="3357000" y="4343400"/>
            <a:chExt cx="2412360" cy="2095560"/>
          </a:xfrm>
        </p:grpSpPr>
        <p:sp>
          <p:nvSpPr>
            <p:cNvPr id="90" name="Rectangle 5"/>
            <p:cNvSpPr/>
            <p:nvPr/>
          </p:nvSpPr>
          <p:spPr>
            <a:xfrm>
              <a:off x="3357000" y="6045120"/>
              <a:ext cx="2412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Aspect = tan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c /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3754440" y="4343400"/>
              <a:ext cx="158760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3754440" y="4794120"/>
              <a:ext cx="15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281480" y="434340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4815000" y="434340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10240" y="43909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441972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419720" y="4390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4952880" y="4390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388620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495288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388620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>
              <a:off x="441972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8"/>
            <p:cNvSpPr/>
            <p:nvPr/>
          </p:nvSpPr>
          <p:spPr>
            <a:xfrm>
              <a:off x="495288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3754440" y="5327640"/>
              <a:ext cx="15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derive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y other variables describing terrain features/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ll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file and plan curv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ature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73528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276720" y="838080"/>
            <a:ext cx="273528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6095880" y="838080"/>
            <a:ext cx="272916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274320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3276720" y="3662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6"/>
          <a:stretch/>
        </p:blipFill>
        <p:spPr>
          <a:xfrm>
            <a:off x="6089760" y="3657600"/>
            <a:ext cx="2724120" cy="2738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45720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09588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s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7672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7200" y="365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hillsh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276720" y="3657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plan curv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6172200" y="365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Feature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rrain visual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tical hill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thographic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azimuth, altitude, view distance/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rface drapes (point, line and area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imated ‘fly-through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f?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re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mo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427640" y="2922480"/>
            <a:ext cx="4573440" cy="341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85840" y="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of hillshading and orthographic pro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92680" cy="46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1828800" y="2895480"/>
            <a:ext cx="2470320" cy="3443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905120" y="29718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Hillsh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52280" y="4419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535800" y="356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Orthographic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2280" y="3067200"/>
            <a:ext cx="4050000" cy="302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"/>
          <p:cNvPicPr/>
          <p:nvPr/>
        </p:nvPicPr>
        <p:blipFill>
          <a:blip r:embed="rId2"/>
          <a:stretch/>
        </p:blipFill>
        <p:spPr>
          <a:xfrm>
            <a:off x="165240" y="750960"/>
            <a:ext cx="4028760" cy="260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surface dr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4211640" cy="3138480"/>
          </a:xfrm>
          <a:prstGeom prst="rect">
            <a:avLst/>
          </a:prstGeom>
          <a:ln w="0">
            <a:noFill/>
          </a:ln>
        </p:spPr>
      </p:pic>
      <p:sp>
        <p:nvSpPr>
          <p:cNvPr id="133" name="Line 11"/>
          <p:cNvSpPr/>
          <p:nvPr/>
        </p:nvSpPr>
        <p:spPr>
          <a:xfrm>
            <a:off x="4191120" y="2286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15228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666880" y="3352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04920" y="3809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28600" y="1219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Rainf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4724280" y="19051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Draped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1674720" y="2844720"/>
            <a:ext cx="0" cy="5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 flipV="1">
            <a:off x="2671920" y="334944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Ms and DT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defini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M (Digital Elevation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 regularly or irregularly spaced heigh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other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TM (Digital Terrain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 regularly or irregularly spaced heigh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, with other information about terrain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dge lines, spot heights, troughs, coast/shore lines, drainage lines, faults, peaks, pits, pass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7480" y="49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K DEM 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52600" y="1716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nance Surv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form Pano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scale: 1: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 5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accuracy: ±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form Pro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scale: 1: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 1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accuracy: ±0.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649440" y="1430280"/>
            <a:ext cx="3859200" cy="3922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29" descr=""/>
          <p:cNvPicPr/>
          <p:nvPr/>
        </p:nvPicPr>
        <p:blipFill>
          <a:blip r:embed="rId2"/>
          <a:stretch/>
        </p:blipFill>
        <p:spPr>
          <a:xfrm>
            <a:off x="4583160" y="1398600"/>
            <a:ext cx="3881520" cy="3944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30"/>
          <p:cNvSpPr/>
          <p:nvPr/>
        </p:nvSpPr>
        <p:spPr>
          <a:xfrm>
            <a:off x="1171440" y="53370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Landform Pano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1"/>
          <p:cNvSpPr/>
          <p:nvPr/>
        </p:nvSpPr>
        <p:spPr>
          <a:xfrm>
            <a:off x="5095800" y="53514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Landform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DAR data </a:t>
            </a:r>
            <a:br>
              <a:rPr sz="32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Ight Detection And Rang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H:\Images\Miscellaneous\lidarriver.jpg"/>
          <p:cNvPicPr/>
          <p:nvPr/>
        </p:nvPicPr>
        <p:blipFill>
          <a:blip r:embed="rId1"/>
          <a:stretch/>
        </p:blipFill>
        <p:spPr>
          <a:xfrm>
            <a:off x="415800" y="1057320"/>
            <a:ext cx="4346640" cy="434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Images\Miscellaneous\lidar2.gif"/>
          <p:cNvPicPr/>
          <p:nvPr/>
        </p:nvPicPr>
        <p:blipFill>
          <a:blip r:embed="rId2"/>
          <a:stretch/>
        </p:blipFill>
        <p:spPr>
          <a:xfrm>
            <a:off x="5619600" y="3224160"/>
            <a:ext cx="3057840" cy="30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:\Images\Miscellaneous\lidarflood.gif"/>
          <p:cNvPicPr/>
          <p:nvPr/>
        </p:nvPicPr>
        <p:blipFill>
          <a:blip r:embed="rId3"/>
          <a:stretch/>
        </p:blipFill>
        <p:spPr>
          <a:xfrm>
            <a:off x="4952880" y="1055520"/>
            <a:ext cx="3044880" cy="3044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87360" y="556092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orizontal resolution: 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ertical accuracy: ± 2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lling building and topological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main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gital Elevation Models (DEMs) based on data sampled on a regular grid (latt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iangular Irregular Networks (TINs) based on irregular sampled data and Delaunay trian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Ms and T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3009960" cy="339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3112920" cy="3444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90720" y="2133720"/>
            <a:ext cx="31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DEM with sample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800600" y="2133720"/>
            <a:ext cx="31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TIN based on same sample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579600" y="1042920"/>
            <a:ext cx="788184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rive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ary use of DTMs is calculation of three main terrain vari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itude above d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ection area of terrain is f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l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dient or angle of 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14:58:26Z</dcterms:created>
  <dc:creator>Dr Steve Carver</dc:creator>
  <dc:description/>
  <dc:language>en-US</dc:language>
  <cp:lastModifiedBy>kafeel</cp:lastModifiedBy>
  <dcterms:modified xsi:type="dcterms:W3CDTF">2014-10-29T06:49:56Z</dcterms:modified>
  <cp:revision>28</cp:revision>
  <dc:subject/>
  <dc:title>PowerPoint Presentation</dc:title>
</cp:coreProperties>
</file>