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C14-42D0-4A89-A552-567C1E70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D31-8310-4527-82BE-73AB829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063-1E25-4666-ADEE-1ECB0F7C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AA3-94D5-4BD6-B75C-7523DE72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4C6-F8E2-4043-9D9F-2BB998C4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387-1D76-4B04-9AB0-2E1752D2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2F9-DDF3-487E-9DD2-4EC49028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4C7-A0A4-478F-9350-B07CFE3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E05-032A-4305-872B-390F77CC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C15-DC68-43CE-89F6-FEFAAB8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E1B-C2C2-47F4-9D27-292AB32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2D8-68A5-4504-8BC3-59A9D8C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97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ill Sans MT"/>
              </a:rPr>
              <a:t>Week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13040" y="6476760"/>
            <a:ext cx="531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Gill Sans MT"/>
              </a:rPr>
              <a:t>GEOG2750 – Earth Observation and GIS of the Physic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0600" y="6476760"/>
            <a:ext cx="95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15D0-E589-4A11-8B14-342821892E3D}" type="slidenum">
              <a:rPr b="0" lang="en-GB" sz="1400" spc="-1" strike="noStrike">
                <a:solidFill>
                  <a:srgbClr val="80808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ng the third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high relief areas variables such as altitude, aspect and slope strongly influence both human and physical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D data model is therefore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 Digital Terrain Model (D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rive information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ight (altitude), aspect and slope (grad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sheds (catch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adiation and hill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t and fill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lination of the land surface measured in degrees or per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x 3 cell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best fit tilted plane that minimises squared difference in height for each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slope of centre (target)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3207240" y="4419720"/>
            <a:ext cx="2511720" cy="2010960"/>
            <a:chOff x="3207240" y="4419720"/>
            <a:chExt cx="2511720" cy="2010960"/>
          </a:xfrm>
        </p:grpSpPr>
        <p:sp>
          <p:nvSpPr>
            <p:cNvPr id="71" name="Rectangle 4"/>
            <p:cNvSpPr/>
            <p:nvPr/>
          </p:nvSpPr>
          <p:spPr>
            <a:xfrm>
              <a:off x="3207240" y="6067440"/>
              <a:ext cx="251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Slope = b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+ c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3830760" y="4419720"/>
              <a:ext cx="158724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3830760" y="487044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3830760" y="540396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5780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489096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3886200" y="44672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49568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49568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02920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396252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502920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396252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49568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502920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Rectangle 19"/>
          <p:cNvSpPr/>
          <p:nvPr/>
        </p:nvSpPr>
        <p:spPr>
          <a:xfrm>
            <a:off x="6319800" y="3352680"/>
            <a:ext cx="190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 = a + bx + 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a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ion the land surface is facing measured in degrees or nominal classes (N, S, E, W, NE, SE, NW, SW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3 x 3 filter and best fit tilted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aspect for target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3357000" y="4343400"/>
            <a:ext cx="2412360" cy="2095560"/>
            <a:chOff x="3357000" y="4343400"/>
            <a:chExt cx="2412360" cy="2095560"/>
          </a:xfrm>
        </p:grpSpPr>
        <p:sp>
          <p:nvSpPr>
            <p:cNvPr id="90" name="Rectangle 5"/>
            <p:cNvSpPr/>
            <p:nvPr/>
          </p:nvSpPr>
          <p:spPr>
            <a:xfrm>
              <a:off x="3357000" y="6045120"/>
              <a:ext cx="241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Aspect = tan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c /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3754440" y="4343400"/>
              <a:ext cx="1587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3754440" y="479412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28148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481500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10240" y="43909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441972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41972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495288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388620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495288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388620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441972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>
              <a:off x="495288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3754440" y="532764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other variables describing terrain features/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file and plan curv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ture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27672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272916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274320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3276720" y="366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6089760" y="3657600"/>
            <a:ext cx="2724120" cy="2738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45720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09588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7200" y="365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276720" y="3657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plan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172200" y="365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Feature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rrain visu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tical 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thographic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azimuth, altitude, view distance/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rface drapes (point, line and area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imated ‘fly-through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f?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re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mo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427640" y="2922480"/>
            <a:ext cx="4573440" cy="341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85840" y="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of hillshading and orthographic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92680" cy="46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2470320" cy="3443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905120" y="2971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280" y="4419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535800" y="356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Orthographic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3067200"/>
            <a:ext cx="4050000" cy="302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2"/>
          <a:stretch/>
        </p:blipFill>
        <p:spPr>
          <a:xfrm>
            <a:off x="165240" y="750960"/>
            <a:ext cx="4028760" cy="260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surface dr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211640" cy="313848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419112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1522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666880" y="3352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0492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28600" y="1219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Rainf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724280" y="1905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Drape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1674720" y="2844720"/>
            <a:ext cx="0" cy="5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2671920" y="334944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DT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defini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M (Digital Elevatio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ther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TM (Digital Terrai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, with other information about terrai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dge lines, spot heights, troughs, coast/shore lines, drainage lines, faults, peaks, pits, pass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748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K DEM 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52600" y="1716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nance Surv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ano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5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ro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0.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649440" y="1430280"/>
            <a:ext cx="3859200" cy="392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29" descr=""/>
          <p:cNvPicPr/>
          <p:nvPr/>
        </p:nvPicPr>
        <p:blipFill>
          <a:blip r:embed="rId2"/>
          <a:stretch/>
        </p:blipFill>
        <p:spPr>
          <a:xfrm>
            <a:off x="4583160" y="1398600"/>
            <a:ext cx="3881520" cy="3944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0"/>
          <p:cNvSpPr/>
          <p:nvPr/>
        </p:nvSpPr>
        <p:spPr>
          <a:xfrm>
            <a:off x="1171440" y="53370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ano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5095800" y="53514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DAR data 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ght Detection And Ran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H:\Images\Miscellaneous\lidarriver.jpg"/>
          <p:cNvPicPr/>
          <p:nvPr/>
        </p:nvPicPr>
        <p:blipFill>
          <a:blip r:embed="rId1"/>
          <a:stretch/>
        </p:blipFill>
        <p:spPr>
          <a:xfrm>
            <a:off x="415800" y="1057320"/>
            <a:ext cx="4346640" cy="434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Images\Miscellaneous\lidar2.gif"/>
          <p:cNvPicPr/>
          <p:nvPr/>
        </p:nvPicPr>
        <p:blipFill>
          <a:blip r:embed="rId2"/>
          <a:stretch/>
        </p:blipFill>
        <p:spPr>
          <a:xfrm>
            <a:off x="5619600" y="3224160"/>
            <a:ext cx="3057840" cy="30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:\Images\Miscellaneous\lidarflood.gif"/>
          <p:cNvPicPr/>
          <p:nvPr/>
        </p:nvPicPr>
        <p:blipFill>
          <a:blip r:embed="rId3"/>
          <a:stretch/>
        </p:blipFill>
        <p:spPr>
          <a:xfrm>
            <a:off x="4952880" y="1055520"/>
            <a:ext cx="3044880" cy="3044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87360" y="556092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rizontal resolution: 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ertical accuracy: ± 2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lling building and topological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gital Elevation Models (DEMs) based on data sampled on a regular grid (latt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angular Irregular Networks (TINs) based on irregular sampled data and Delaunay trian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T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009960" cy="339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112920" cy="3444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9072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DEM with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0060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TIN based on same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579600" y="1042920"/>
            <a:ext cx="78818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ary use of DTMs is calculation of three main terrain vari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itude above 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ion area of terrain is 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l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ient or angle of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4:58:26Z</dcterms:created>
  <dc:creator>Dr Steve Carver</dc:creator>
  <dc:description/>
  <dc:language>en-US</dc:language>
  <cp:lastModifiedBy>kafeel</cp:lastModifiedBy>
  <dcterms:modified xsi:type="dcterms:W3CDTF">2014-10-29T06:49:56Z</dcterms:modified>
  <cp:revision>28</cp:revision>
  <dc:subject/>
  <dc:title>PowerPoint Presentation</dc:title>
</cp:coreProperties>
</file>