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184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336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9032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184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336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3520" y="22824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55600" y="0"/>
            <a:ext cx="9637560" cy="6845400"/>
            <a:chOff x="255600" y="0"/>
            <a:chExt cx="9637560" cy="6845400"/>
          </a:xfrm>
        </p:grpSpPr>
        <p:sp>
          <p:nvSpPr>
            <p:cNvPr id="1" name="Rectangle 3"/>
            <p:cNvSpPr/>
            <p:nvPr/>
          </p:nvSpPr>
          <p:spPr>
            <a:xfrm>
              <a:off x="255600" y="0"/>
              <a:ext cx="25884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6280" y="0"/>
              <a:ext cx="40464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49200" y="0"/>
              <a:ext cx="117324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9560" y="0"/>
              <a:ext cx="33048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41520" y="1467000"/>
              <a:ext cx="569880" cy="121896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50800" y="1409760"/>
              <a:ext cx="934236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62080" y="1409760"/>
              <a:ext cx="962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910368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7D90-AB79-4C1B-9310-B4A5C4D0280F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4880" y="1946160"/>
            <a:ext cx="7021440" cy="150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oints, Vectors, Lines, Spheres and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60240" y="64008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Anthony Steed 2001-20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h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D transformations as 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genous co-ordinat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Basic Mat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computer graphics we need mathematics both for describing our scenes and also for performing operations on them, such as projection and various transformation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ordinate systems (right- and left-handed), serve as a reference point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3 axes labelled x, y, z at right angles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-ordinate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2394000" y="419112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2394000" y="2590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1320480" y="4191120"/>
            <a:ext cx="107316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2394000" y="396252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476080" y="4191120"/>
            <a:ext cx="1652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2228760" y="434340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175640" y="415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548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32080" y="49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030320" y="5451480"/>
            <a:ext cx="353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comes out of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7016760" y="416556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 flipV="1">
            <a:off x="7016760" y="256500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V="1">
            <a:off x="7016760" y="3352680"/>
            <a:ext cx="1238400" cy="81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7016760" y="393696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7264440" y="4038120"/>
            <a:ext cx="247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7264440" y="403848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8798400" y="413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7477560" y="2301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054840" y="4892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848920" y="542592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goes in to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ints, P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s us a position in relation to the origin of our coordinate syst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resent 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ion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magnitud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3D spac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oints != Vec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ctor +Vector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– Point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Vector = Poi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Point = 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8080" y="563040"/>
            <a:ext cx="726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215040" y="2031840"/>
            <a:ext cx="1906200" cy="1307880"/>
            <a:chOff x="6215040" y="2031840"/>
            <a:chExt cx="1906200" cy="1307880"/>
          </a:xfrm>
        </p:grpSpPr>
        <p:sp>
          <p:nvSpPr>
            <p:cNvPr id="81" name="Line 5"/>
            <p:cNvSpPr/>
            <p:nvPr/>
          </p:nvSpPr>
          <p:spPr>
            <a:xfrm flipV="1">
              <a:off x="6215040" y="2534760"/>
              <a:ext cx="40932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 flipV="1">
              <a:off x="6643440" y="2058480"/>
              <a:ext cx="145872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V="1">
              <a:off x="6218280" y="2043000"/>
              <a:ext cx="190296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6227280" y="247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6777720" y="2031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"/>
            <p:cNvSpPr/>
            <p:nvPr/>
          </p:nvSpPr>
          <p:spPr>
            <a:xfrm>
              <a:off x="6992280" y="265392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+ 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6828840" y="312408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ad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v +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108080" y="2114640"/>
            <a:ext cx="7826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1542960" y="1828440"/>
            <a:ext cx="1494000" cy="16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154160" y="220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793880" y="2449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53280" y="270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447640" y="2381400"/>
            <a:ext cx="76500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3851280" y="2315880"/>
            <a:ext cx="40788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749040" y="2662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2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019160" y="33685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multiplication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s (they remain parall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 flipV="1">
            <a:off x="1224000" y="4992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 flipV="1">
            <a:off x="1652760" y="4516200"/>
            <a:ext cx="14587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1236960" y="49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1911960" y="43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1483920" y="588312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dif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 = v + (-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3027240" y="5046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 flipV="1">
            <a:off x="3029040" y="5374800"/>
            <a:ext cx="145728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039480" y="498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703680" y="54849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3537360" y="47372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 flipH="1" flipV="1">
            <a:off x="3411000" y="5084640"/>
            <a:ext cx="10321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2"/>
          <p:cNvGrpSpPr/>
          <p:nvPr/>
        </p:nvGrpSpPr>
        <p:grpSpPr>
          <a:xfrm>
            <a:off x="5793480" y="4191120"/>
            <a:ext cx="2843640" cy="2134440"/>
            <a:chOff x="5793480" y="4191120"/>
            <a:chExt cx="2843640" cy="2134440"/>
          </a:xfrm>
        </p:grpSpPr>
        <p:sp>
          <p:nvSpPr>
            <p:cNvPr id="109" name="Line 33"/>
            <p:cNvSpPr/>
            <p:nvPr/>
          </p:nvSpPr>
          <p:spPr>
            <a:xfrm flipV="1">
              <a:off x="6164280" y="4233960"/>
              <a:ext cx="0" cy="18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>
              <a:off x="6021720" y="5924520"/>
              <a:ext cx="26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5"/>
            <p:cNvSpPr/>
            <p:nvPr/>
          </p:nvSpPr>
          <p:spPr>
            <a:xfrm>
              <a:off x="8199000" y="586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6"/>
            <p:cNvSpPr/>
            <p:nvPr/>
          </p:nvSpPr>
          <p:spPr>
            <a:xfrm>
              <a:off x="5793480" y="419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37"/>
          <p:cNvSpPr/>
          <p:nvPr/>
        </p:nvSpPr>
        <p:spPr>
          <a:xfrm>
            <a:off x="6042240" y="63421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7174080" y="638496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6157800" y="4957560"/>
            <a:ext cx="1600200" cy="96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7521120" y="45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1"/>
          <p:cNvSpPr/>
          <p:nvPr/>
        </p:nvSpPr>
        <p:spPr>
          <a:xfrm>
            <a:off x="6115680" y="58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5365800" y="1905120"/>
            <a:ext cx="0" cy="479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>
            <a:off x="0" y="419112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ngth (modulus) of a vect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x, y, z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unit vector: a vector can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uch that it retains its direction, but is scaled to have unit length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716200" y="2495520"/>
                <a:ext cx="173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930400" y="5407200"/>
                <a:ext cx="2965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V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ector 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dulus of 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num>
                          <m:den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  <m:r>
                              <m:t xml:space="preserve">|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5T10:30:52Z</dcterms:created>
  <dc:creator>Iqbal</dc:creator>
  <dc:description/>
  <dc:language>en-US</dc:language>
  <cp:lastModifiedBy>kafeel</cp:lastModifiedBy>
  <cp:lastPrinted>1999-10-31T16:31:28Z</cp:lastPrinted>
  <dcterms:modified xsi:type="dcterms:W3CDTF">2014-10-29T06:21:04Z</dcterms:modified>
  <cp:revision>75</cp:revision>
  <dc:subject/>
  <dc:title>Vectors</dc:title>
</cp:coreProperties>
</file>