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E4B0-7871-44C7-8635-45FE7793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69C-9968-45ED-AF5E-5AA9E016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B2A-AC8A-4ACE-84A6-7F9028F3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3AD-5333-4877-A24C-E751D575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05F-5CE5-4119-BC2C-D0802C25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0B7-37CB-4E9D-A0CE-B2DD8A59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2EE-669B-4A17-8E06-35811C0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644-C392-4AA2-8679-20A21DBE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955-9C86-4C3B-BF6B-54E587E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D0A-0255-41D4-83A2-2D674F67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B46-A00A-4B00-B4BF-CB46FF48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977-FF71-481E-81BA-71CD33D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0D5-8FD8-4E71-A333-C972A7E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6C2-AD62-4B63-9AC0-CBA6171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36C5-ED50-4699-813C-C2CD812AAD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7618" t="12666" r="7618" b="139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2400" spc="-1" strike="noStrike">
              <a:solidFill>
                <a:srgbClr val="11488b"/>
              </a:solidFill>
              <a:latin typeface="Berlin Sans FB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ONE DAY SEMINAR 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STRATEGIC AND CONCEPTUAL PLANNING FOR SUSTAINABLE WATER SUPPLY 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SANITATION SERVICES FOR ALL AFGH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898989"/>
                </a:solidFill>
                <a:latin typeface="Calibri"/>
              </a:rPr>
              <a:t>22nd November 2015 at MRRD, Kabu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29718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Berlin Sans FB Demi"/>
              </a:rPr>
              <a:t>PPT On WASH Policy Problem/Solutio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2666880" y="2971800"/>
            <a:ext cx="441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-34920" y="12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04920" y="19051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Rural  Water Supply, Sanitation and Irrigation Program (RuWatSIP</a:t>
            </a:r>
            <a:r>
              <a:rPr b="1" lang="en-US" sz="2000" spc="-1" strike="noStrike">
                <a:solidFill>
                  <a:srgbClr val="000000"/>
                </a:solidFill>
                <a:latin typeface="Berlin Sans FB Dem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ackground of Enabling Environment in WAS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ASH Problem Tree Analy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levant Ev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bjective Tree Analy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/Background of WASH Enabling Environ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247840"/>
            <a:ext cx="8915400" cy="461016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003/4 First WatSAN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vised in 200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vised and Renamed as WASH Policy in 201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as  developed in the context of  (ANDS) that                 proposes to achieve  (MD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by 2020/not happe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ly under revision Specific focus on Changing Attitude/rather than physical Infrastru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Y? Next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5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28600" y="0"/>
            <a:ext cx="8915400" cy="6858000"/>
            <a:chOff x="228600" y="0"/>
            <a:chExt cx="8915400" cy="6858000"/>
          </a:xfrm>
        </p:grpSpPr>
        <p:sp>
          <p:nvSpPr>
            <p:cNvPr id="62" name="Text Box 3"/>
            <p:cNvSpPr/>
            <p:nvPr/>
          </p:nvSpPr>
          <p:spPr>
            <a:xfrm>
              <a:off x="683640" y="6459840"/>
              <a:ext cx="3087000" cy="39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lackadder ITC"/>
                </a:rPr>
                <a:t>Produced By: Mohammad Afzal S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AutoShape 4"/>
            <p:cNvCxnSpPr/>
            <p:nvPr/>
          </p:nvCxnSpPr>
          <p:spPr>
            <a:xfrm flipH="1">
              <a:off x="1844280" y="1824840"/>
              <a:ext cx="14760" cy="59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5"/>
            <p:cNvCxnSpPr/>
            <p:nvPr/>
          </p:nvCxnSpPr>
          <p:spPr>
            <a:xfrm>
              <a:off x="4623480" y="1822680"/>
              <a:ext cx="1080" cy="588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6"/>
            <p:cNvCxnSpPr/>
            <p:nvPr/>
          </p:nvCxnSpPr>
          <p:spPr>
            <a:xfrm>
              <a:off x="6846480" y="1808280"/>
              <a:ext cx="1080" cy="592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7"/>
            <p:cNvCxnSpPr/>
            <p:nvPr/>
          </p:nvCxnSpPr>
          <p:spPr>
            <a:xfrm flipV="1">
              <a:off x="2036880" y="4528080"/>
              <a:ext cx="5022360" cy="1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8"/>
            <p:cNvCxnSpPr/>
            <p:nvPr/>
          </p:nvCxnSpPr>
          <p:spPr>
            <a:xfrm flipV="1">
              <a:off x="6987960" y="4540680"/>
              <a:ext cx="108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9"/>
            <p:cNvCxnSpPr/>
            <p:nvPr/>
          </p:nvCxnSpPr>
          <p:spPr>
            <a:xfrm flipH="1" flipV="1">
              <a:off x="4773960" y="4230720"/>
              <a:ext cx="1080" cy="29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"/>
            <p:cNvCxnSpPr/>
            <p:nvPr/>
          </p:nvCxnSpPr>
          <p:spPr>
            <a:xfrm>
              <a:off x="1859040" y="2399760"/>
              <a:ext cx="4988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AutoShape 11"/>
            <p:cNvCxnSpPr/>
            <p:nvPr/>
          </p:nvCxnSpPr>
          <p:spPr>
            <a:xfrm>
              <a:off x="4774320" y="2410920"/>
              <a:ext cx="1080" cy="29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AutoShape 12"/>
            <p:cNvCxnSpPr/>
            <p:nvPr/>
          </p:nvCxnSpPr>
          <p:spPr>
            <a:xfrm>
              <a:off x="1844640" y="2400120"/>
              <a:ext cx="500220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" name="Text Box 13"/>
            <p:cNvSpPr/>
            <p:nvPr/>
          </p:nvSpPr>
          <p:spPr>
            <a:xfrm>
              <a:off x="886680" y="2855160"/>
              <a:ext cx="1336320" cy="31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re Probl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7786800" y="2235600"/>
              <a:ext cx="394560" cy="27284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uses                             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Text Box 15" descr=""/>
            <p:cNvPicPr/>
            <p:nvPr/>
          </p:nvPicPr>
          <p:blipFill>
            <a:blip r:embed="rId1"/>
            <a:stretch/>
          </p:blipFill>
          <p:spPr>
            <a:xfrm>
              <a:off x="7784640" y="2243160"/>
              <a:ext cx="40212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6"/>
            <p:cNvSpPr/>
            <p:nvPr/>
          </p:nvSpPr>
          <p:spPr>
            <a:xfrm>
              <a:off x="2907000" y="2709000"/>
              <a:ext cx="3748680" cy="1522080"/>
            </a:xfrm>
            <a:prstGeom prst="ellipse">
              <a:avLst/>
            </a:pr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sed on Field Evidence, Translation of WASH Policies  into Practice have not Gone Beyond A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5947560" y="5067720"/>
              <a:ext cx="2053080" cy="102852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oject base Uncoordinated Provision of WASH Services in the Absence of  Data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683640" y="2948040"/>
              <a:ext cx="2111040" cy="976320"/>
            </a:xfrm>
            <a:prstGeom prst="rightArrow">
              <a:avLst>
                <a:gd name="adj1" fmla="val 50000"/>
                <a:gd name="adj2" fmla="val 540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28496" dir="3825519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8234640" y="1193760"/>
              <a:ext cx="909360" cy="4271760"/>
            </a:xfrm>
            <a:prstGeom prst="upArrow">
              <a:avLst>
                <a:gd name="adj1" fmla="val 50000"/>
                <a:gd name="adj2" fmla="val 11743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cc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28496" dir="3825519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0"/>
            <p:cNvSpPr/>
            <p:nvPr/>
          </p:nvSpPr>
          <p:spPr>
            <a:xfrm>
              <a:off x="228600" y="0"/>
              <a:ext cx="8446680" cy="483480"/>
            </a:xfrm>
            <a:prstGeom prst="rect">
              <a:avLst/>
            </a:prstGeom>
            <a:gradFill rotWithShape="0">
              <a:gsLst>
                <a:gs pos="0">
                  <a:srgbClr val="daeef3"/>
                </a:gs>
                <a:gs pos="100000">
                  <a:srgbClr val="c0d2d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ASH  Policy Problem–Tree- 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1"/>
            <p:cNvSpPr/>
            <p:nvPr/>
          </p:nvSpPr>
          <p:spPr>
            <a:xfrm>
              <a:off x="5766480" y="884880"/>
              <a:ext cx="212112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Groundwater depletion/ Contamination  and Environmental Pollu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3411360" y="884880"/>
              <a:ext cx="202752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k of Strong Community Based O&amp;M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761760" y="884880"/>
              <a:ext cx="2033640" cy="101736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ow Coverage and Use of Alternative Sources of Water  and Unsafe Disposal of Excre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4"/>
            <p:cNvSpPr/>
            <p:nvPr/>
          </p:nvSpPr>
          <p:spPr>
            <a:xfrm>
              <a:off x="3276720" y="5067720"/>
              <a:ext cx="2514600" cy="110448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blic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wareness/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More Focus on Physical Infrastructures Rather Than Social Aspect,  Creation of Ownership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Sustain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25"/>
            <p:cNvCxnSpPr/>
            <p:nvPr/>
          </p:nvCxnSpPr>
          <p:spPr>
            <a:xfrm flipV="1">
              <a:off x="4573080" y="4527000"/>
              <a:ext cx="1080" cy="60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26"/>
            <p:cNvCxnSpPr/>
            <p:nvPr/>
          </p:nvCxnSpPr>
          <p:spPr>
            <a:xfrm flipH="1">
              <a:off x="5438160" y="1404360"/>
              <a:ext cx="327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" name="AutoShape 27"/>
            <p:cNvCxnSpPr/>
            <p:nvPr/>
          </p:nvCxnSpPr>
          <p:spPr>
            <a:xfrm>
              <a:off x="2795760" y="1404360"/>
              <a:ext cx="615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" name="Text Box 28"/>
            <p:cNvSpPr/>
            <p:nvPr/>
          </p:nvSpPr>
          <p:spPr>
            <a:xfrm>
              <a:off x="609480" y="5067720"/>
              <a:ext cx="2515320" cy="1049040"/>
            </a:xfrm>
            <a:prstGeom prst="rect">
              <a:avLst/>
            </a:prstGeom>
            <a:gradFill rotWithShape="0">
              <a:gsLst>
                <a:gs pos="0">
                  <a:srgbClr val="938953"/>
                </a:gs>
                <a:gs pos="50000">
                  <a:srgbClr val="ffffff"/>
                </a:gs>
                <a:gs pos="100000">
                  <a:srgbClr val="93895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sufficient Sources, poor Capacity, Poor Quality Services  Political Commitment, Donors Fatig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29"/>
            <p:cNvCxnSpPr/>
            <p:nvPr/>
          </p:nvCxnSpPr>
          <p:spPr>
            <a:xfrm flipV="1">
              <a:off x="2036880" y="4630680"/>
              <a:ext cx="1080" cy="43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levant Event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Water Day/WW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Sanitation Workshop/ L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ydro-geological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GIS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Toilet Day/W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Hand Washing Day/GHW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min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Blinking towards solution to the core problem next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11120" y="492120"/>
            <a:ext cx="8732880" cy="6372360"/>
            <a:chOff x="411120" y="492120"/>
            <a:chExt cx="8732880" cy="6372360"/>
          </a:xfrm>
        </p:grpSpPr>
        <p:sp>
          <p:nvSpPr>
            <p:cNvPr id="92" name="Text Box 3"/>
            <p:cNvSpPr/>
            <p:nvPr/>
          </p:nvSpPr>
          <p:spPr>
            <a:xfrm>
              <a:off x="411120" y="4797360"/>
              <a:ext cx="1820520" cy="14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hance Capacity ,   Political Commitment, Formulate and Sell th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"/>
            <p:cNvCxnSpPr/>
            <p:nvPr/>
          </p:nvCxnSpPr>
          <p:spPr>
            <a:xfrm>
              <a:off x="1828080" y="2453040"/>
              <a:ext cx="56682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AutoShape 5"/>
            <p:cNvCxnSpPr/>
            <p:nvPr/>
          </p:nvCxnSpPr>
          <p:spPr>
            <a:xfrm>
              <a:off x="1828080" y="1947960"/>
              <a:ext cx="10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AutoShape 6"/>
            <p:cNvCxnSpPr/>
            <p:nvPr/>
          </p:nvCxnSpPr>
          <p:spPr>
            <a:xfrm>
              <a:off x="4552200" y="1955520"/>
              <a:ext cx="1080" cy="50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AutoShape 7"/>
            <p:cNvCxnSpPr/>
            <p:nvPr/>
          </p:nvCxnSpPr>
          <p:spPr>
            <a:xfrm>
              <a:off x="7495560" y="1951920"/>
              <a:ext cx="10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" name="AutoShape 8"/>
            <p:cNvCxnSpPr/>
            <p:nvPr/>
          </p:nvCxnSpPr>
          <p:spPr>
            <a:xfrm>
              <a:off x="1342440" y="4275360"/>
              <a:ext cx="5610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" name="AutoShape 9"/>
            <p:cNvCxnSpPr/>
            <p:nvPr/>
          </p:nvCxnSpPr>
          <p:spPr>
            <a:xfrm flipV="1">
              <a:off x="1342080" y="4276440"/>
              <a:ext cx="1080" cy="60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AutoShape 10"/>
            <p:cNvCxnSpPr/>
            <p:nvPr/>
          </p:nvCxnSpPr>
          <p:spPr>
            <a:xfrm flipV="1">
              <a:off x="4685760" y="4275360"/>
              <a:ext cx="108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AutoShape 11"/>
            <p:cNvCxnSpPr/>
            <p:nvPr/>
          </p:nvCxnSpPr>
          <p:spPr>
            <a:xfrm flipV="1">
              <a:off x="6952680" y="4276440"/>
              <a:ext cx="1080" cy="521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AutoShape 12"/>
            <p:cNvCxnSpPr/>
            <p:nvPr/>
          </p:nvCxnSpPr>
          <p:spPr>
            <a:xfrm flipV="1">
              <a:off x="5247720" y="4082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AutoShape 13"/>
            <p:cNvSpPr/>
            <p:nvPr/>
          </p:nvSpPr>
          <p:spPr>
            <a:xfrm>
              <a:off x="8286840" y="1074960"/>
              <a:ext cx="857160" cy="4403520"/>
            </a:xfrm>
            <a:prstGeom prst="upArrow">
              <a:avLst>
                <a:gd name="adj1" fmla="val 50000"/>
                <a:gd name="adj2" fmla="val 12840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cc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28496" dir="3825519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3495240" y="292284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3495240" y="2924280"/>
              <a:ext cx="2190600" cy="92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verty and Poor 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AutoShape 18"/>
            <p:cNvCxnSpPr/>
            <p:nvPr/>
          </p:nvCxnSpPr>
          <p:spPr>
            <a:xfrm>
              <a:off x="5247720" y="2453040"/>
              <a:ext cx="1080" cy="22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Text Box 19"/>
            <p:cNvSpPr/>
            <p:nvPr/>
          </p:nvSpPr>
          <p:spPr>
            <a:xfrm>
              <a:off x="8096400" y="2301840"/>
              <a:ext cx="371880" cy="23493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uses                              Eff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Text Box 20" descr=""/>
            <p:cNvPicPr/>
            <p:nvPr/>
          </p:nvPicPr>
          <p:blipFill>
            <a:blip r:embed="rId1"/>
            <a:stretch/>
          </p:blipFill>
          <p:spPr>
            <a:xfrm>
              <a:off x="8095680" y="2310120"/>
              <a:ext cx="377640" cy="23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21"/>
            <p:cNvSpPr/>
            <p:nvPr/>
          </p:nvSpPr>
          <p:spPr>
            <a:xfrm>
              <a:off x="701280" y="2997360"/>
              <a:ext cx="1530360" cy="27216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b6d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verall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5505120" y="4796280"/>
              <a:ext cx="2876400" cy="140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ove from  Project base Uncoordinated Towards Progmatic and Coordinated Provision of WASH Services in the light  of  Data and Planned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342880" y="4797360"/>
              <a:ext cx="3009960" cy="140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blic Awareness Campaign Through Contextualized CLTS Approach,  More Focus on CHANGING People Attitude Rather Than Provision Physical Infra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2657160" y="2673360"/>
              <a:ext cx="5229360" cy="1409400"/>
            </a:xfrm>
            <a:prstGeom prst="ellipse">
              <a:avLst/>
            </a:prstGeom>
            <a:gradFill rotWithShape="0">
              <a:gsLst>
                <a:gs pos="0">
                  <a:srgbClr val="92cdd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H Policy Help Lead All Players from Policy Makers Down to practitioners and Communities in 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5"/>
            <p:cNvSpPr/>
            <p:nvPr/>
          </p:nvSpPr>
          <p:spPr>
            <a:xfrm>
              <a:off x="532800" y="492120"/>
              <a:ext cx="7994880" cy="416520"/>
            </a:xfrm>
            <a:prstGeom prst="rect">
              <a:avLst/>
            </a:prstGeom>
            <a:gradFill rotWithShape="0">
              <a:gsLst>
                <a:gs pos="0">
                  <a:srgbClr val="b6dde8"/>
                </a:gs>
                <a:gs pos="100000">
                  <a:srgbClr val="71899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ASH  Policy Objective –Tree-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6008760" y="1071720"/>
              <a:ext cx="237276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rovision of WASH  Services without Environmental and Health Degrad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3151080" y="1079280"/>
              <a:ext cx="266688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eople Take over the responsibility of their own WASH Assets ENSURE Sustainability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532800" y="1071720"/>
              <a:ext cx="2409840" cy="87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05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arching Towards Universal Coverage and Usage of WASH Facilities in Sanitary 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9"/>
            <p:cNvSpPr/>
            <p:nvPr/>
          </p:nvSpPr>
          <p:spPr>
            <a:xfrm>
              <a:off x="748800" y="3139920"/>
              <a:ext cx="2003400" cy="706680"/>
            </a:xfrm>
            <a:prstGeom prst="rightArrow">
              <a:avLst>
                <a:gd name="adj1" fmla="val 50000"/>
                <a:gd name="adj2" fmla="val 70874"/>
              </a:avLst>
            </a:prstGeom>
            <a:gradFill rotWithShape="0">
              <a:gsLst>
                <a:gs pos="0">
                  <a:srgbClr val="b6dde8"/>
                </a:gs>
                <a:gs pos="100000">
                  <a:srgbClr val="f0f8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0"/>
            <p:cNvSpPr/>
            <p:nvPr/>
          </p:nvSpPr>
          <p:spPr>
            <a:xfrm>
              <a:off x="438840" y="6464520"/>
              <a:ext cx="30564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lackadder ITC"/>
                </a:rPr>
                <a:t>Produced By: Mohammad Afzal Saf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nisheeth kumar</dc:creator>
  <dc:description/>
  <dc:language>en-US</dc:language>
  <cp:lastModifiedBy>Svein Stoveland</cp:lastModifiedBy>
  <dcterms:modified xsi:type="dcterms:W3CDTF">2015-11-26T13:56:37Z</dcterms:modified>
  <cp:revision>101</cp:revision>
  <dc:subject/>
  <dc:title>Work Plan  WASH Policy and Strategy Government of Islamic Republic of Afghanistan</dc:title>
</cp:coreProperties>
</file>