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CC9-CA6B-4E08-AE68-38DA3C3C8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47B2-E299-41B0-92D5-4752D1B4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274-B93F-4C8D-9F15-DC8C7642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D87-F273-4851-AF6C-B197E77A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A7B-7C06-4468-8203-E821C03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B67-4873-446A-9497-C4F760BF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A9D-3EAE-4D31-9BA2-4E90746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CC6-D0B8-4528-B465-F600594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E8B-B8FD-4055-A78D-D974DA34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39B-5E74-4D99-8CAB-94693AC7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BE5-62E8-4908-87D7-5889D058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88B-9693-48C0-8838-6455271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86F-FF70-4FA4-A68E-475F10AD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198-1001-4356-B396-C1F059D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5105-8C4A-46BA-B946-9D2FC7224E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7618" t="12666" r="7618" b="139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2400" spc="-1" strike="noStrike">
              <a:solidFill>
                <a:srgbClr val="11488b"/>
              </a:solidFill>
              <a:latin typeface="Berlin Sans FB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ONE DAY SEMINAR 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STRATEGIC AND CONCEPTUAL PLANNING FOR SUSTAINABLE WATER SUPPLY 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SANITATION SERVICES FOR ALL AFGH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898989"/>
                </a:solidFill>
                <a:latin typeface="Calibri"/>
              </a:rPr>
              <a:t>22nd November 2015 at MRRD, Kabu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29718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Berlin Sans FB Demi"/>
              </a:rPr>
              <a:t>PPT On WASH Policy Problem/Soluti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2666880" y="2971800"/>
            <a:ext cx="441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-34920" y="12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04920" y="190512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Rural  Water Supply, Sanitation and Irrigation Program (RuWatSIP</a:t>
            </a: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ackground of Enabling Environment in WAS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ASH Problem Tree Analy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levant Ev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bjective Tree Analy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story/Background of WASH Enabling Environ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2247840"/>
            <a:ext cx="8915400" cy="461016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003/4 First WatSAN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vised in 200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vised and Renamed as WASH Policy in 20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as  developed in the context of  (ANDS) that                 proposes to achieve  (MD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by 2020/not happe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ly under revision Specific focus on Changing Attitude/rather than physical Infrastru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Y? Next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5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28600" y="0"/>
            <a:ext cx="8915400" cy="6858000"/>
            <a:chOff x="228600" y="0"/>
            <a:chExt cx="8915400" cy="6858000"/>
          </a:xfrm>
        </p:grpSpPr>
        <p:sp>
          <p:nvSpPr>
            <p:cNvPr id="62" name="Text Box 3"/>
            <p:cNvSpPr/>
            <p:nvPr/>
          </p:nvSpPr>
          <p:spPr>
            <a:xfrm>
              <a:off x="683640" y="6459840"/>
              <a:ext cx="3087000" cy="39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lackadder ITC"/>
                </a:rPr>
                <a:t>Produced By: Mohammad Afzal S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AutoShape 4"/>
            <p:cNvCxnSpPr/>
            <p:nvPr/>
          </p:nvCxnSpPr>
          <p:spPr>
            <a:xfrm flipH="1">
              <a:off x="1844280" y="1824840"/>
              <a:ext cx="14760" cy="59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5"/>
            <p:cNvCxnSpPr/>
            <p:nvPr/>
          </p:nvCxnSpPr>
          <p:spPr>
            <a:xfrm>
              <a:off x="4623480" y="1822680"/>
              <a:ext cx="1080" cy="588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6"/>
            <p:cNvCxnSpPr/>
            <p:nvPr/>
          </p:nvCxnSpPr>
          <p:spPr>
            <a:xfrm>
              <a:off x="6846480" y="1808280"/>
              <a:ext cx="1080" cy="59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7"/>
            <p:cNvCxnSpPr/>
            <p:nvPr/>
          </p:nvCxnSpPr>
          <p:spPr>
            <a:xfrm flipV="1">
              <a:off x="2036880" y="4528080"/>
              <a:ext cx="5022360" cy="1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8"/>
            <p:cNvCxnSpPr/>
            <p:nvPr/>
          </p:nvCxnSpPr>
          <p:spPr>
            <a:xfrm flipV="1">
              <a:off x="6987960" y="4540680"/>
              <a:ext cx="108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9"/>
            <p:cNvCxnSpPr/>
            <p:nvPr/>
          </p:nvCxnSpPr>
          <p:spPr>
            <a:xfrm flipH="1" flipV="1">
              <a:off x="4773960" y="4230720"/>
              <a:ext cx="1080" cy="29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"/>
            <p:cNvCxnSpPr/>
            <p:nvPr/>
          </p:nvCxnSpPr>
          <p:spPr>
            <a:xfrm>
              <a:off x="1859040" y="2399760"/>
              <a:ext cx="498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AutoShape 11"/>
            <p:cNvCxnSpPr/>
            <p:nvPr/>
          </p:nvCxnSpPr>
          <p:spPr>
            <a:xfrm>
              <a:off x="4774320" y="2410920"/>
              <a:ext cx="1080" cy="29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AutoShape 12"/>
            <p:cNvCxnSpPr/>
            <p:nvPr/>
          </p:nvCxnSpPr>
          <p:spPr>
            <a:xfrm>
              <a:off x="1844640" y="2400120"/>
              <a:ext cx="500220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" name="Text Box 13"/>
            <p:cNvSpPr/>
            <p:nvPr/>
          </p:nvSpPr>
          <p:spPr>
            <a:xfrm>
              <a:off x="886680" y="2855160"/>
              <a:ext cx="1336320" cy="31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ore Probl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7786800" y="2235600"/>
              <a:ext cx="394560" cy="27284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uses                             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Text Box 15" descr=""/>
            <p:cNvPicPr/>
            <p:nvPr/>
          </p:nvPicPr>
          <p:blipFill>
            <a:blip r:embed="rId1"/>
            <a:stretch/>
          </p:blipFill>
          <p:spPr>
            <a:xfrm>
              <a:off x="7784640" y="2243160"/>
              <a:ext cx="40212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16"/>
            <p:cNvSpPr/>
            <p:nvPr/>
          </p:nvSpPr>
          <p:spPr>
            <a:xfrm>
              <a:off x="2907000" y="2709000"/>
              <a:ext cx="3748680" cy="1522080"/>
            </a:xfrm>
            <a:prstGeom prst="ellipse">
              <a:avLst/>
            </a:prstGeom>
            <a:gradFill rotWithShape="0">
              <a:gsLst>
                <a:gs pos="0">
                  <a:srgbClr val="f8b049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sed on Field Evidence, Translation of WASH Policies  into Practice have not Gone Beyond Aspi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5947560" y="5067720"/>
              <a:ext cx="2053080" cy="1028520"/>
            </a:xfrm>
            <a:prstGeom prst="rect">
              <a:avLst/>
            </a:prstGeom>
            <a:gradFill rotWithShape="0">
              <a:gsLst>
                <a:gs pos="0">
                  <a:srgbClr val="938953"/>
                </a:gs>
                <a:gs pos="50000">
                  <a:srgbClr val="ffffff"/>
                </a:gs>
                <a:gs pos="100000">
                  <a:srgbClr val="9389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roject base Uncoordinated Provision of WASH Services in the Absence of  Data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683640" y="2948040"/>
              <a:ext cx="2111040" cy="976320"/>
            </a:xfrm>
            <a:prstGeom prst="rightArrow">
              <a:avLst>
                <a:gd name="adj1" fmla="val 50000"/>
                <a:gd name="adj2" fmla="val 540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28496" dir="3825519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8234640" y="1193760"/>
              <a:ext cx="909360" cy="4271760"/>
            </a:xfrm>
            <a:prstGeom prst="upArrow">
              <a:avLst>
                <a:gd name="adj1" fmla="val 50000"/>
                <a:gd name="adj2" fmla="val 11743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cccc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28496" dir="3825519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0"/>
            <p:cNvSpPr/>
            <p:nvPr/>
          </p:nvSpPr>
          <p:spPr>
            <a:xfrm>
              <a:off x="228600" y="0"/>
              <a:ext cx="8446680" cy="483480"/>
            </a:xfrm>
            <a:prstGeom prst="rect">
              <a:avLst/>
            </a:prstGeom>
            <a:gradFill rotWithShape="0">
              <a:gsLst>
                <a:gs pos="0">
                  <a:srgbClr val="daeef3"/>
                </a:gs>
                <a:gs pos="100000">
                  <a:srgbClr val="c0d2d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ASH  Policy Problem–Tree-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1"/>
            <p:cNvSpPr/>
            <p:nvPr/>
          </p:nvSpPr>
          <p:spPr>
            <a:xfrm>
              <a:off x="5766480" y="884880"/>
              <a:ext cx="2121120" cy="10173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Groundwater depletion/ Contamination  and Environmental Pollu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3411360" y="884880"/>
              <a:ext cx="2027520" cy="10173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ck of Strong Community Based O&amp;M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761760" y="884880"/>
              <a:ext cx="2033640" cy="10173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ow Coverage and Use of Alternative Sources of Water  and Unsafe Disposal of Excre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4"/>
            <p:cNvSpPr/>
            <p:nvPr/>
          </p:nvSpPr>
          <p:spPr>
            <a:xfrm>
              <a:off x="3276720" y="5067720"/>
              <a:ext cx="2514600" cy="1104480"/>
            </a:xfrm>
            <a:prstGeom prst="rect">
              <a:avLst/>
            </a:prstGeom>
            <a:gradFill rotWithShape="0">
              <a:gsLst>
                <a:gs pos="0">
                  <a:srgbClr val="938953"/>
                </a:gs>
                <a:gs pos="50000">
                  <a:srgbClr val="ffffff"/>
                </a:gs>
                <a:gs pos="100000">
                  <a:srgbClr val="9389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wareness/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More Focus on Physical Infrastructures Rather Than Social Aspect,  Creation of Ownership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Sustain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25"/>
            <p:cNvCxnSpPr/>
            <p:nvPr/>
          </p:nvCxnSpPr>
          <p:spPr>
            <a:xfrm flipV="1">
              <a:off x="4573080" y="4527000"/>
              <a:ext cx="1080" cy="60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AutoShape 26"/>
            <p:cNvCxnSpPr/>
            <p:nvPr/>
          </p:nvCxnSpPr>
          <p:spPr>
            <a:xfrm flipH="1">
              <a:off x="5438160" y="1404360"/>
              <a:ext cx="327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" name="AutoShape 27"/>
            <p:cNvCxnSpPr/>
            <p:nvPr/>
          </p:nvCxnSpPr>
          <p:spPr>
            <a:xfrm>
              <a:off x="2795760" y="1404360"/>
              <a:ext cx="61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" name="Text Box 28"/>
            <p:cNvSpPr/>
            <p:nvPr/>
          </p:nvSpPr>
          <p:spPr>
            <a:xfrm>
              <a:off x="609480" y="5067720"/>
              <a:ext cx="2515320" cy="1049040"/>
            </a:xfrm>
            <a:prstGeom prst="rect">
              <a:avLst/>
            </a:prstGeom>
            <a:gradFill rotWithShape="0">
              <a:gsLst>
                <a:gs pos="0">
                  <a:srgbClr val="938953"/>
                </a:gs>
                <a:gs pos="50000">
                  <a:srgbClr val="ffffff"/>
                </a:gs>
                <a:gs pos="100000">
                  <a:srgbClr val="9389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sufficient Sources, poor Capacity, Poor Quality Services  Political Commitment, Donors Fatig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29"/>
            <p:cNvCxnSpPr/>
            <p:nvPr/>
          </p:nvCxnSpPr>
          <p:spPr>
            <a:xfrm flipV="1">
              <a:off x="2036880" y="4630680"/>
              <a:ext cx="1080" cy="43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levant Event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Water Day/WW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Sanitation Workshop/ L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ydro-geological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GIS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Toilet Day/WT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Hand Washing Day/GHW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min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Blinking towards solution to the core problem next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11120" y="492120"/>
            <a:ext cx="8732880" cy="6372360"/>
            <a:chOff x="411120" y="492120"/>
            <a:chExt cx="8732880" cy="6372360"/>
          </a:xfrm>
        </p:grpSpPr>
        <p:sp>
          <p:nvSpPr>
            <p:cNvPr id="92" name="Text Box 3"/>
            <p:cNvSpPr/>
            <p:nvPr/>
          </p:nvSpPr>
          <p:spPr>
            <a:xfrm>
              <a:off x="411120" y="4797360"/>
              <a:ext cx="1820520" cy="140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hance Capacity ,   Political Commitment, Formulate and Sell th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"/>
            <p:cNvCxnSpPr/>
            <p:nvPr/>
          </p:nvCxnSpPr>
          <p:spPr>
            <a:xfrm>
              <a:off x="1828080" y="2453040"/>
              <a:ext cx="56682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AutoShape 5"/>
            <p:cNvCxnSpPr/>
            <p:nvPr/>
          </p:nvCxnSpPr>
          <p:spPr>
            <a:xfrm>
              <a:off x="1828080" y="1947960"/>
              <a:ext cx="108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AutoShape 6"/>
            <p:cNvCxnSpPr/>
            <p:nvPr/>
          </p:nvCxnSpPr>
          <p:spPr>
            <a:xfrm>
              <a:off x="4552200" y="1955520"/>
              <a:ext cx="1080" cy="50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AutoShape 7"/>
            <p:cNvCxnSpPr/>
            <p:nvPr/>
          </p:nvCxnSpPr>
          <p:spPr>
            <a:xfrm>
              <a:off x="7495560" y="1951920"/>
              <a:ext cx="108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" name="AutoShape 8"/>
            <p:cNvCxnSpPr/>
            <p:nvPr/>
          </p:nvCxnSpPr>
          <p:spPr>
            <a:xfrm>
              <a:off x="1342440" y="4275360"/>
              <a:ext cx="5610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" name="AutoShape 9"/>
            <p:cNvCxnSpPr/>
            <p:nvPr/>
          </p:nvCxnSpPr>
          <p:spPr>
            <a:xfrm flipV="1">
              <a:off x="1342080" y="4276440"/>
              <a:ext cx="1080" cy="60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AutoShape 10"/>
            <p:cNvCxnSpPr/>
            <p:nvPr/>
          </p:nvCxnSpPr>
          <p:spPr>
            <a:xfrm flipV="1">
              <a:off x="4685760" y="4275360"/>
              <a:ext cx="108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AutoShape 11"/>
            <p:cNvCxnSpPr/>
            <p:nvPr/>
          </p:nvCxnSpPr>
          <p:spPr>
            <a:xfrm flipV="1">
              <a:off x="6952680" y="4276440"/>
              <a:ext cx="108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AutoShape 12"/>
            <p:cNvCxnSpPr/>
            <p:nvPr/>
          </p:nvCxnSpPr>
          <p:spPr>
            <a:xfrm flipV="1">
              <a:off x="5247720" y="4082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AutoShape 13"/>
            <p:cNvSpPr/>
            <p:nvPr/>
          </p:nvSpPr>
          <p:spPr>
            <a:xfrm>
              <a:off x="8286840" y="1074960"/>
              <a:ext cx="857160" cy="4403520"/>
            </a:xfrm>
            <a:prstGeom prst="upArrow">
              <a:avLst>
                <a:gd name="adj1" fmla="val 50000"/>
                <a:gd name="adj2" fmla="val 12840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cccc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28496" dir="3825519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3495240" y="292284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3495240" y="292428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3495240" y="292428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3495240" y="292428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AutoShape 18"/>
            <p:cNvCxnSpPr/>
            <p:nvPr/>
          </p:nvCxnSpPr>
          <p:spPr>
            <a:xfrm>
              <a:off x="5247720" y="2453040"/>
              <a:ext cx="1080" cy="22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Text Box 19"/>
            <p:cNvSpPr/>
            <p:nvPr/>
          </p:nvSpPr>
          <p:spPr>
            <a:xfrm>
              <a:off x="8096400" y="2301840"/>
              <a:ext cx="371880" cy="23493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uses                             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Text Box 20" descr=""/>
            <p:cNvPicPr/>
            <p:nvPr/>
          </p:nvPicPr>
          <p:blipFill>
            <a:blip r:embed="rId1"/>
            <a:stretch/>
          </p:blipFill>
          <p:spPr>
            <a:xfrm>
              <a:off x="8095680" y="2310120"/>
              <a:ext cx="377640" cy="23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1"/>
            <p:cNvSpPr/>
            <p:nvPr/>
          </p:nvSpPr>
          <p:spPr>
            <a:xfrm>
              <a:off x="701280" y="2997360"/>
              <a:ext cx="1530360" cy="27216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b6d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verall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5505120" y="4796280"/>
              <a:ext cx="2876400" cy="140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ove from  Project base Uncoordinated Towards Progmatic and Coordinated Provision of WASH Services in the light  of  Data and Planned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342880" y="4797360"/>
              <a:ext cx="3009960" cy="140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blic Awareness Campaign Through Contextualized CLTS Approach,  More Focus on CHANGING People Attitude Rather Than Provision Physical Infra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2657160" y="2673360"/>
              <a:ext cx="5229360" cy="1409400"/>
            </a:xfrm>
            <a:prstGeom prst="ellipse">
              <a:avLst/>
            </a:prstGeom>
            <a:gradFill rotWithShape="0">
              <a:gsLst>
                <a:gs pos="0">
                  <a:srgbClr val="92cdd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H Policy Help Lead All Players from Policy Makers Down to practitioners and Communities in 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5"/>
            <p:cNvSpPr/>
            <p:nvPr/>
          </p:nvSpPr>
          <p:spPr>
            <a:xfrm>
              <a:off x="532800" y="492120"/>
              <a:ext cx="7994880" cy="416520"/>
            </a:xfrm>
            <a:prstGeom prst="rect">
              <a:avLst/>
            </a:prstGeom>
            <a:gradFill rotWithShape="0">
              <a:gsLst>
                <a:gs pos="0">
                  <a:srgbClr val="b6dde8"/>
                </a:gs>
                <a:gs pos="100000">
                  <a:srgbClr val="71899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ASH  Policy Objective –Tree-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6"/>
            <p:cNvSpPr/>
            <p:nvPr/>
          </p:nvSpPr>
          <p:spPr>
            <a:xfrm>
              <a:off x="6008760" y="1071720"/>
              <a:ext cx="237276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rovision of WASH  Services without Environmental and Health Degrad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7"/>
            <p:cNvSpPr/>
            <p:nvPr/>
          </p:nvSpPr>
          <p:spPr>
            <a:xfrm>
              <a:off x="3151080" y="1079280"/>
              <a:ext cx="266688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eople Take over the responsibility of their own WASH Assets ENSURE Sustainability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532800" y="1071720"/>
              <a:ext cx="240984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arching Towards Universal Coverage and Usage of WASH Facilities in Sanitary 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9"/>
            <p:cNvSpPr/>
            <p:nvPr/>
          </p:nvSpPr>
          <p:spPr>
            <a:xfrm>
              <a:off x="748800" y="3139920"/>
              <a:ext cx="2003400" cy="706680"/>
            </a:xfrm>
            <a:prstGeom prst="rightArrow">
              <a:avLst>
                <a:gd name="adj1" fmla="val 50000"/>
                <a:gd name="adj2" fmla="val 70874"/>
              </a:avLst>
            </a:prstGeom>
            <a:gradFill rotWithShape="0">
              <a:gsLst>
                <a:gs pos="0">
                  <a:srgbClr val="b6dde8"/>
                </a:gs>
                <a:gs pos="100000">
                  <a:srgbClr val="f0f8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0"/>
            <p:cNvSpPr/>
            <p:nvPr/>
          </p:nvSpPr>
          <p:spPr>
            <a:xfrm>
              <a:off x="438840" y="6464520"/>
              <a:ext cx="30564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lackadder ITC"/>
                </a:rPr>
                <a:t>Produced By: Mohammad Afzal S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nisheeth kumar</dc:creator>
  <dc:description/>
  <dc:language>en-US</dc:language>
  <cp:lastModifiedBy>Svein Stoveland</cp:lastModifiedBy>
  <dcterms:modified xsi:type="dcterms:W3CDTF">2015-11-26T13:56:37Z</dcterms:modified>
  <cp:revision>101</cp:revision>
  <dc:subject/>
  <dc:title>Work Plan  WASH Policy and Strategy Government of Islamic Republic of Afghanistan</dc:title>
</cp:coreProperties>
</file>